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0613D-AFE5-43B0-B24B-6106AA7D0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4321-E2F8-47FD-827E-546B1C513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8FD64-CBEC-46E7-B439-A5FB4EFEA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A807B-B660-4696-BA68-564A39F41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FB252-CA20-4221-B048-E29BEF8A4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0A8E8-E69E-4030-B3AB-8BB9F7765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3C67-E1DA-4357-8D89-6EF10A12D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1B93A-FF6C-47F8-B5F9-CCCC3E543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D4C9C-BF90-42FD-9BB9-B71CD0857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E5B13-69D9-4AD3-83BA-473A2F29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EB00B-CE53-4FA4-8D02-4B8150D6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9985-039C-4951-A78B-4E2C4E21F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FD63B-DD34-45DA-A2C3-A7BB859B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BF4AD-F9C8-449E-AE44-673A3D866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DBD67-B88D-4D48-A12F-547C0D795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A9D6A-8FE6-4C2B-8129-64165E041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4275D-8BDC-46BD-8795-E3BB4B1E6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9929-7B6A-403B-9A88-FA446C34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6F2E-C047-40AE-8648-413A43F5C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2DAEB-6A04-4069-B4C9-5A5DD626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F2334-E091-467F-9BB6-014EE2D3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3844-93C8-4A9B-800A-2EC80F9ED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76F0-E6B5-4C9E-AE64-DB8A8FD8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1210-BC0F-4481-9741-8DE9B65A4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3E04-ABA1-4419-9628-6D95BF99CCE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5F7A-624F-4D19-BA20-53E34B860A2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iphlib.ru/library/collection/newphilenc/document/HASHb4683b239b42034c0488b4"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
        <p:nvSpPr>
          <p:cNvPr id="83" name="TextBox 2"/>
          <p:cNvSpPr/>
          <p:nvPr/>
        </p:nvSpPr>
        <p:spPr>
          <a:xfrm>
            <a:off x="49320" y="1557360"/>
            <a:ext cx="9109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ОСНОВЫ ПРОГРАММИРОВАНИЯ И ТЕХНОЛОГИЙ ИСКУССТВЕННОГО ИНТЕЛЛЕКТ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В СФЕРЕ МАРКЕТИНГ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Вводный кур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автора, изложенные в ней, противоречили марксистской общественной теории. В связи с этим кибернетика была объявлена советскими властями лженаукой, что предопределило отставание отечественной науки в этой обла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Этот термин в настоящее время используется в более узком смысле как одно из направлений теории систем, занимающееся </a:t>
            </a:r>
            <a:r>
              <a:rPr b="0" i="1" lang="ru-RU" sz="2000" spc="-1" strike="noStrike">
                <a:solidFill>
                  <a:srgbClr val="000000"/>
                </a:solidFill>
                <a:latin typeface="Calibri"/>
              </a:rPr>
              <a:t>процессами управления техническими объектами.</a:t>
            </a:r>
            <a:r>
              <a:rPr b="0" lang="ru-RU" sz="2000" spc="-1" strike="noStrike">
                <a:solidFill>
                  <a:srgbClr val="000000"/>
                </a:solidFill>
                <a:latin typeface="Calibri"/>
              </a:rPr>
              <a:t> А для обобщения дисциплин, связанных с исследованием и проектированием сложных систем, используется термин </a:t>
            </a:r>
            <a:r>
              <a:rPr b="0" i="1" lang="ru-RU" sz="2000" spc="-1" strike="noStrike">
                <a:solidFill>
                  <a:srgbClr val="000000"/>
                </a:solidFill>
                <a:latin typeface="Calibri"/>
              </a:rPr>
              <a:t>системные исследования</a:t>
            </a:r>
            <a:r>
              <a:rPr b="0" lang="ru-RU" sz="2000" spc="-1" strike="noStrike">
                <a:solidFill>
                  <a:srgbClr val="000000"/>
                </a:solidFill>
                <a:latin typeface="Calibri"/>
              </a:rPr>
              <a:t>, иногда используется термин </a:t>
            </a:r>
            <a:r>
              <a:rPr b="0" i="1" lang="ru-RU" sz="2000" spc="-1" strike="noStrike">
                <a:solidFill>
                  <a:srgbClr val="000000"/>
                </a:solidFill>
                <a:latin typeface="Calibri"/>
              </a:rPr>
              <a:t>системный подход.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более поздних достижений следует выделить работу бельгийского ученого Ивана Пригожина «Порядок из хаоса» (1979 г.). «Материя – не пассивная субстанция, ей присуща спонтанная активность, вызванная наличием неравновесных состояний.»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лагодаря таким представлениям возникла так называемая </a:t>
            </a:r>
            <a:r>
              <a:rPr b="0" i="1" lang="ru-RU" sz="2000" spc="-1" strike="noStrike">
                <a:solidFill>
                  <a:srgbClr val="000000"/>
                </a:solidFill>
                <a:latin typeface="Calibri"/>
              </a:rPr>
              <a:t>«теория катастроф» (теория бифуркаций) и синергети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ОСНОВНЫЕ ПОНЯТИЯ ТЕОРИИ ИНФОРМАЦИОННЫХ СИСТЕМ</a:t>
            </a:r>
            <a:br>
              <a:rPr sz="3200"/>
            </a:br>
            <a:endParaRPr b="0" lang="en-US" sz="32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стоящее время нет единства в определении понятия "система". В первых определениях в той или иной форме говорилось о том, что система - это элементы и связи (отношения) между ними. Например, основоположник теории систем Людвиг фон Берталанфи определял систему как комплекс взаимодействующих элементов или как совокупность элементов, находящихся в определенных отношениях друг с другом и со средой. А. Холл определяет систему как множество предметов вместе со связями между предметами и между их признаками. Ведутся дискуссии, какой термин - "отношение" или "связь" - лучше употреблять.</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81000"/>
            <a:ext cx="8229600" cy="5145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зднее в определениях системы появляется понятие цели. Так, в «Новой Философской энциклопедии" система определяется так:</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ff0000"/>
                </a:solidFill>
                <a:latin typeface="Calibri"/>
              </a:rPr>
              <a:t>СИСТЕМА (от греч. σύστεμα – целое, составленное из частей, соединение) – совокупность элементов, находящихся в отношениях и связях друг с другом, которая образует определенную целостность, единство.</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s://iphlib.ru/library/collection/newphilenc/document/HASHb4683b239b42034c0488b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последнее время в определение понятия системы наряду с элементами, связями и их свойствами и целями начинают включать наблюдателя, хотя впервые на необходимость учета взаимодействия между исследователем и изучаемой системой указал один из основоположников кибернетики У. Р. Эшб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 Масарович и Я. Такахара в книге "Общая теория систем" считают, что система - "формальная взаимосвязь между наблюдаемыми признаками и свойств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Под системой понимается объект, свойства которого не сводятся без остатка к свойствам составляющих его дискретных элементов (неаддитивность свойств). </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Интегративное свойство системы обеспечивает ее целостность, качественно новое образование по сравнению с составляющими ее частями.</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юбой элемент  системы  можно  рассматривать  как самостоятельную систему (математическую модель,  описывающую какой - либо функциональный блок, или аспект изучаемой проблемы), как правило более низкого порядка. </a:t>
            </a:r>
            <a:r>
              <a:rPr b="0" i="1" lang="ru-RU" sz="1800" spc="-1" strike="noStrike">
                <a:solidFill>
                  <a:srgbClr val="000000"/>
                </a:solidFill>
                <a:latin typeface="Calibri"/>
              </a:rPr>
              <a:t>Каждый элемент системы описывается своей функцией</a:t>
            </a:r>
            <a:r>
              <a:rPr b="0" lang="ru-RU" sz="1800" spc="-1" strike="noStrike">
                <a:solidFill>
                  <a:srgbClr val="000000"/>
                </a:solidFill>
                <a:latin typeface="Calibri"/>
              </a:rPr>
              <a:t>. Под функцией понимается присущее живой и костной материи вещественно-энергетические и информационные отношения между входными и выходными процессами.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такой элемент обладает внутренней структурой, то его называют </a:t>
            </a:r>
            <a:r>
              <a:rPr b="0" i="1" lang="ru-RU" sz="1800" spc="-1" strike="noStrike">
                <a:solidFill>
                  <a:srgbClr val="c00000"/>
                </a:solidFill>
                <a:latin typeface="Calibri"/>
              </a:rPr>
              <a:t>подсистемой,</a:t>
            </a:r>
            <a:r>
              <a:rPr b="0" lang="ru-RU" sz="1800" spc="-1" strike="noStrike">
                <a:solidFill>
                  <a:srgbClr val="000000"/>
                </a:solidFill>
                <a:latin typeface="Calibri"/>
              </a:rPr>
              <a:t> такое описание может быть использовано при реализации методов анализа и синтеза систем. Это нашло отражение в одном из принципов системного анализа - законе системности, говорящим о том что любой элемент может быть либо подсистемой в некоторой системе либо, подсистемой среди множества объектов аналогичной категории. Элемент всегда является частью системы и вне ее не представляет смысла.</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сматривая различные определения системы и не выделяя ни одного из них в качестве основного обычно подчеркивают сложность понятия системы, неоднозначность выбора формы описания на различных стадиях исследования. При описании системы рекомендуется воспользоваться максимально полным способом, а потом выделить наиболее компоненты влияющие на ее функционирование и сформулировать рабочие описание систем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Рассмотрим основные понятия, характеризующие строение и функционирование систем.</a:t>
            </a:r>
            <a:endParaRPr b="0" lang="en-US" sz="1800" spc="-1" strike="noStrike">
              <a:solidFill>
                <a:srgbClr val="000000"/>
              </a:solidFill>
              <a:latin typeface="Calibri"/>
            </a:endParaRPr>
          </a:p>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Calibri"/>
              </a:rPr>
              <a:t>Элемент</a:t>
            </a:r>
            <a:r>
              <a:rPr b="0" lang="ru-RU" sz="1800" spc="-1" strike="noStrike">
                <a:solidFill>
                  <a:srgbClr val="000000"/>
                </a:solidFill>
                <a:latin typeface="Calibri"/>
              </a:rPr>
              <a:t>. Под элементом принято понимать простейшую </a:t>
            </a:r>
            <a:r>
              <a:rPr b="0" i="1" lang="ru-RU" sz="1800" spc="-1" strike="noStrike">
                <a:solidFill>
                  <a:srgbClr val="000000"/>
                </a:solidFill>
                <a:latin typeface="Calibri"/>
              </a:rPr>
              <a:t>неделимую</a:t>
            </a:r>
            <a:r>
              <a:rPr b="0" lang="ru-RU" sz="1800" spc="-1" strike="noStrike">
                <a:solidFill>
                  <a:srgbClr val="000000"/>
                </a:solidFill>
                <a:latin typeface="Calibri"/>
              </a:rPr>
              <a:t> часть системы. Ответ на вопрос, что является такой частью, может быть неоднозначным и зависит от цели рассмотрения объекта как системы, от точки зрения на него или от аспекта его изучения. Таким образом, элемент - это предел деления системы с точек зрения решения конкретной задачи и поставленной цели. Систему можно расчленить на элементы различными способами в зависимости от формулировки цели и ее уточнения в процессе исследова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Calibri"/>
              </a:rPr>
              <a:t>Подсистема.</a:t>
            </a:r>
            <a:r>
              <a:rPr b="0" lang="ru-RU" sz="1800" spc="-1" strike="noStrike">
                <a:solidFill>
                  <a:srgbClr val="000000"/>
                </a:solidFill>
                <a:latin typeface="Calibri"/>
              </a:rPr>
              <a:t> Система может быть разделена на элементы не сразу, а последовательным расчленением на подсистемы, которые представляют собой компоненты более крупные, чем элементы, и в то же время более детальные, чем система в целом.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ность деления системы на подсистемы связана с вычленением совокупностей взаимосвязанных элементов, способных выполнять относительно независимые функции, подцели, направленные на достижение общей цели системы. Названием "подсистема" подчеркивается, что такая часть должна обладать свойствами системы (в частности, свойством эмерджентности). Этим подсистема отличается от простой группы элементов, для которой не сформулирована подцель и не выполняются свойства целостности (для такой группы используется название "компоненты"). Например, подсистемы АСУ, подсистемы пассажирского транспорта крупного город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Структура</a:t>
            </a:r>
            <a:r>
              <a:rPr b="0" lang="ru-RU" sz="2000" spc="-1" strike="noStrike">
                <a:solidFill>
                  <a:srgbClr val="000000"/>
                </a:solidFill>
                <a:latin typeface="Calibri"/>
              </a:rPr>
              <a:t>. Это понятие происходит от латинского слова structure, означающего строение, расположение, порядок. Структура отражает наиболее существенные взаимоотношения между элементами и их группами (компонентами, подсистемами), которые мало меняются при изменениях в системе и обеспечивают существование системы и ее основных свойств. Структура - это совокупность элементов и связей между ними.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может быть представлена графически, в виде теоретико-множественных описаний, матриц, графов и других языков моделирования структур.</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76280"/>
            <a:ext cx="8229600" cy="5649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руктуру часто представляют в виде </a:t>
            </a:r>
            <a:r>
              <a:rPr b="0" lang="ru-RU" sz="1800" spc="-1" strike="noStrike">
                <a:solidFill>
                  <a:srgbClr val="ff0000"/>
                </a:solidFill>
                <a:latin typeface="Calibri"/>
              </a:rPr>
              <a:t>иерарх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ера́рхия (от др.-греч. ἱεραρχία букв. «священноначалие», от др.-греч. ἱερός — «священный» и др.-греч. ἀρχή — «начало; начальство; власть») — положение частей или элементов чего-либо в порядке от высшего к низшему.</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ерархия - это упорядоченность компонентов по степени важности (многоступенчатость, служебная лестница). Между уровнями иерархической структуры могут существовать взаимоотношения строгого подчинения компонентов (узлов) нижележащего уровня одному из компонентов вышележащего уровня, т. е. отношения так называемого древовидного порядка. Такие иерархии называют сильными или иерархиями типа "дерева". Они имеют ряд особенностей, делающих их удобным средством представления систем управления.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могут быть связи и в пределах одного уровня иерархии. Один и тот же узел нижележащего уровня может быть одновременно подчинен нескольким узлам вышележащего уровня. Такие структуры называют иерархическими структурами «со слабыми связями». Между уровнями иерархической структуры могут существовать и более сложные взаимоотношения, например, типа "страт", "слоев", "эшелонов".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 descr=""/>
          <p:cNvPicPr/>
          <p:nvPr/>
        </p:nvPicPr>
        <p:blipFill>
          <a:blip r:embed="rId1"/>
          <a:stretch/>
        </p:blipFill>
        <p:spPr>
          <a:xfrm>
            <a:off x="457200" y="476280"/>
            <a:ext cx="8229600" cy="5649840"/>
          </a:xfrm>
          <a:prstGeom prst="rect">
            <a:avLst/>
          </a:prstGeom>
          <a:ln w="0">
            <a:noFill/>
          </a:ln>
        </p:spPr>
      </p:pic>
      <p:pic>
        <p:nvPicPr>
          <p:cNvPr id="106" name="Рисунок 6" descr=""/>
          <p:cNvPicPr/>
          <p:nvPr/>
        </p:nvPicPr>
        <p:blipFill>
          <a:blip r:embed="rId2"/>
          <a:stretch/>
        </p:blipFill>
        <p:spPr>
          <a:xfrm>
            <a:off x="457200" y="476280"/>
            <a:ext cx="4734000" cy="2049480"/>
          </a:xfrm>
          <a:prstGeom prst="rect">
            <a:avLst/>
          </a:prstGeom>
          <a:ln w="0">
            <a:noFill/>
          </a:ln>
        </p:spPr>
      </p:pic>
      <p:pic>
        <p:nvPicPr>
          <p:cNvPr id="107" name="Рисунок 7" descr=""/>
          <p:cNvPicPr/>
          <p:nvPr/>
        </p:nvPicPr>
        <p:blipFill>
          <a:blip r:embed="rId3"/>
          <a:stretch/>
        </p:blipFill>
        <p:spPr>
          <a:xfrm>
            <a:off x="5337000" y="476280"/>
            <a:ext cx="3349800" cy="2825640"/>
          </a:xfrm>
          <a:prstGeom prst="rect">
            <a:avLst/>
          </a:prstGeom>
          <a:ln w="0">
            <a:noFill/>
          </a:ln>
        </p:spPr>
      </p:pic>
      <p:pic>
        <p:nvPicPr>
          <p:cNvPr id="108" name="Рисунок 8" descr=""/>
          <p:cNvPicPr/>
          <p:nvPr/>
        </p:nvPicPr>
        <p:blipFill>
          <a:blip r:embed="rId4"/>
          <a:stretch/>
        </p:blipFill>
        <p:spPr>
          <a:xfrm>
            <a:off x="457200" y="2781360"/>
            <a:ext cx="4770360" cy="3497040"/>
          </a:xfrm>
          <a:prstGeom prst="rect">
            <a:avLst/>
          </a:prstGeom>
          <a:ln w="0">
            <a:noFill/>
          </a:ln>
        </p:spPr>
      </p:pic>
      <p:pic>
        <p:nvPicPr>
          <p:cNvPr id="109" name="Рисунок 9" descr=""/>
          <p:cNvPicPr/>
          <p:nvPr/>
        </p:nvPicPr>
        <p:blipFill>
          <a:blip r:embed="rId5"/>
          <a:stretch/>
        </p:blipFill>
        <p:spPr>
          <a:xfrm>
            <a:off x="5526000" y="3348000"/>
            <a:ext cx="316080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endParaRPr b="0" lang="en-US" sz="4400" spc="-1" strike="noStrike">
              <a:solidFill>
                <a:srgbClr val="000000"/>
              </a:solidFill>
              <a:latin typeface="Calibri"/>
            </a:endParaRPr>
          </a:p>
        </p:txBody>
      </p:sp>
      <p:sp>
        <p:nvSpPr>
          <p:cNvPr id="85" name=""/>
          <p:cNvSpPr txBox="1"/>
          <p:nvPr/>
        </p:nvSpPr>
        <p:spPr>
          <a:xfrm>
            <a:off x="353880" y="2420640"/>
            <a:ext cx="843624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Информационные системы и технологии. </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ные понятия и определения.</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Связь. </a:t>
            </a:r>
            <a:r>
              <a:rPr b="0" lang="ru-RU" sz="2000" spc="-1" strike="noStrike">
                <a:solidFill>
                  <a:srgbClr val="000000"/>
                </a:solidFill>
                <a:latin typeface="Calibri"/>
              </a:rPr>
              <a:t>Понятие "связь" входит в любое определение системы наряду с понятием "элемент" и обеспечивает возникновение и сохранение структуры и целостных свойств системы. Это понятие характеризует одновременно и строение (статику), и функционирование (динамику) системы.</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язь характеризуется направлением, силой и характером (или видом). По первым двум признакам связи можно разделить на направленные и ненаправленные, сильные и слабые, а по характеру - на связи подчинения, генетические, равноправные (или безразличные), связи управления. Связи можно разделить также по месту приложения (внутренние и внешние), по направленности процессов в системе в целом или в отдельных ее подсистемах (прямые и обратные). Связи в конкретных системах могут быть одновременно охарактеризованы несколькими из названных признако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6048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ую роль в системах играет понятие "обратной связи". Это понятие, легко иллюстрируемое на примерах технических устройств, не всегда можно применить в организационных системах. Исследованию этого понятия большое внимание уделяется в кибернетике, в которой изучается возможность перенесения механизмов обратной связи, характерных для объектов одной физической природы, на объекты другой природы.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тная связь является основой саморегулирования и развития систем, приспособления их к изменяющимся условиям существования.</a:t>
            </a:r>
            <a:endParaRPr b="0" lang="en-US" sz="20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ые связи – положительные и отрицательные, гибкие и жесткие.</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ложительная – при увеличении выходного сигнала механизм обратной связи срабатывает так, чтобы выходной сигнал продолжал увеличиваться (а при уменьшении выходного сигнала – продолжал уменьшаться). Отрицательная – при увеличении выходного сигнала механизм обратной связи срабатывает так, чтобы выходной сигнал уменьшился (а при уменьшении выходного сигнала – увеличился).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трицательная обратная связь способствует устойчивости систем.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Жесткая обратная связь – когда поправка, подаваемая на вход через канал обратной связи, пропорциональна выходному сигналу. Гибкая обратная связь – поправка пропорциональна производной выходного сигнала.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ая связь является основой саморегулирования и развития систем, приспособления их к изменяющимся условиям существования.</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Поведение.</a:t>
            </a:r>
            <a:r>
              <a:rPr b="0" lang="ru-RU" sz="2000" spc="-1" strike="noStrike">
                <a:solidFill>
                  <a:srgbClr val="000000"/>
                </a:solidFill>
                <a:latin typeface="Calibri"/>
              </a:rPr>
              <a:t> Если система способна переходить из одного состояния в другое (например, z</a:t>
            </a:r>
            <a:r>
              <a:rPr b="0" lang="ru-RU" sz="2000" spc="-1" strike="noStrike" baseline="-25000">
                <a:solidFill>
                  <a:srgbClr val="000000"/>
                </a:solidFill>
                <a:latin typeface="Calibri"/>
              </a:rPr>
              <a:t>1</a:t>
            </a:r>
            <a:r>
              <a:rPr b="0" lang="ru-RU" sz="2000" spc="-1" strike="noStrike">
                <a:solidFill>
                  <a:srgbClr val="000000"/>
                </a:solidFill>
                <a:latin typeface="Symbol"/>
                <a:ea typeface="Symbol"/>
              </a:rPr>
              <a:t></a:t>
            </a:r>
            <a:r>
              <a:rPr b="0" lang="ru-RU" sz="2000" spc="-1" strike="noStrike">
                <a:solidFill>
                  <a:srgbClr val="000000"/>
                </a:solidFill>
                <a:latin typeface="Calibri"/>
              </a:rPr>
              <a:t>z</a:t>
            </a:r>
            <a:r>
              <a:rPr b="0" lang="ru-RU" sz="2000" spc="-1" strike="noStrike" baseline="-25000">
                <a:solidFill>
                  <a:srgbClr val="000000"/>
                </a:solidFill>
                <a:latin typeface="Calibri"/>
              </a:rPr>
              <a:t>2</a:t>
            </a:r>
            <a:r>
              <a:rPr b="0" lang="ru-RU" sz="2000" spc="-1" strike="noStrike">
                <a:solidFill>
                  <a:srgbClr val="000000"/>
                </a:solidFill>
                <a:latin typeface="Symbol"/>
                <a:ea typeface="Symbol"/>
              </a:rPr>
              <a:t></a:t>
            </a:r>
            <a:r>
              <a:rPr b="0" lang="ru-RU" sz="2000" spc="-1" strike="noStrike">
                <a:solidFill>
                  <a:srgbClr val="000000"/>
                </a:solidFill>
                <a:latin typeface="Calibri"/>
              </a:rPr>
              <a:t>z</a:t>
            </a:r>
            <a:r>
              <a:rPr b="0" lang="en-US" sz="2000" spc="-1" strike="noStrike" baseline="-25000">
                <a:solidFill>
                  <a:srgbClr val="000000"/>
                </a:solidFill>
                <a:latin typeface="Calibri"/>
              </a:rPr>
              <a:t>3</a:t>
            </a:r>
            <a:r>
              <a:rPr b="0" lang="ru-RU" sz="2000" spc="-1" strike="noStrike">
                <a:solidFill>
                  <a:srgbClr val="000000"/>
                </a:solidFill>
                <a:latin typeface="Calibri"/>
              </a:rPr>
              <a:t>), то говорят, что она обладает поведением. Этим понятием пользуются, когда неизвестны закономерности переходов из одного состояния в другое. Тогда говорят, что система обладает каким-то поведением и выясняют его закономерности. С учетом введенных выше обозначений поведение можно представить как функцию </a:t>
            </a:r>
            <a:r>
              <a:rPr b="1" i="1" lang="ru-RU" sz="2000" spc="-1" strike="noStrike">
                <a:solidFill>
                  <a:srgbClr val="000000"/>
                </a:solidFill>
                <a:latin typeface="Calibri"/>
              </a:rPr>
              <a:t>z</a:t>
            </a:r>
            <a:r>
              <a:rPr b="1" i="1" lang="ru-RU" sz="2000" spc="-1" strike="noStrike" baseline="-25000">
                <a:solidFill>
                  <a:srgbClr val="000000"/>
                </a:solidFill>
                <a:latin typeface="Calibri"/>
              </a:rPr>
              <a:t>t</a:t>
            </a:r>
            <a:r>
              <a:rPr b="1" i="1" lang="ru-RU" sz="2000" spc="-1" strike="noStrike">
                <a:solidFill>
                  <a:srgbClr val="000000"/>
                </a:solidFill>
                <a:latin typeface="Calibri"/>
              </a:rPr>
              <a:t>=f(z</a:t>
            </a:r>
            <a:r>
              <a:rPr b="1" i="1" lang="ru-RU" sz="2000" spc="-1" strike="noStrike" baseline="-25000">
                <a:solidFill>
                  <a:srgbClr val="000000"/>
                </a:solidFill>
                <a:latin typeface="Calibri"/>
              </a:rPr>
              <a:t>t-1</a:t>
            </a:r>
            <a:r>
              <a:rPr b="1" i="1" lang="ru-RU" sz="2000" spc="-1" strike="noStrike">
                <a:solidFill>
                  <a:srgbClr val="000000"/>
                </a:solidFill>
                <a:latin typeface="Calibri"/>
              </a:rPr>
              <a:t>, x</a:t>
            </a:r>
            <a:r>
              <a:rPr b="1" i="1" lang="ru-RU" sz="2000" spc="-1" strike="noStrike" baseline="-25000">
                <a:solidFill>
                  <a:srgbClr val="000000"/>
                </a:solidFill>
                <a:latin typeface="Calibri"/>
              </a:rPr>
              <a:t>t</a:t>
            </a:r>
            <a:r>
              <a:rPr b="1" i="1" lang="ru-RU" sz="2000" spc="-1" strike="noStrike">
                <a:solidFill>
                  <a:srgbClr val="000000"/>
                </a:solidFill>
                <a:latin typeface="Calibri"/>
              </a:rPr>
              <a:t>, u</a:t>
            </a:r>
            <a:r>
              <a:rPr b="1" i="1" lang="ru-RU" sz="2000" spc="-1" strike="noStrike" baseline="-25000">
                <a:solidFill>
                  <a:srgbClr val="000000"/>
                </a:solidFill>
                <a:latin typeface="Calibri"/>
              </a:rPr>
              <a:t>t</a:t>
            </a:r>
            <a:r>
              <a:rPr b="1" i="1"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Внешняя среда</a:t>
            </a:r>
            <a:r>
              <a:rPr b="0" lang="ru-RU" sz="2000" spc="-1" strike="noStrike">
                <a:solidFill>
                  <a:srgbClr val="000000"/>
                </a:solidFill>
                <a:latin typeface="Calibri"/>
              </a:rPr>
              <a:t>. Под внешней средой понимается множество элементов, которые не входят в систему, но изменение их состояния вызывает изменение поведения систем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620280"/>
            <a:ext cx="8229600" cy="550548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Модель. </a:t>
            </a:r>
            <a:r>
              <a:rPr b="0" lang="ru-RU" sz="2000" spc="-1" strike="noStrike">
                <a:solidFill>
                  <a:srgbClr val="000000"/>
                </a:solidFill>
                <a:latin typeface="Calibri"/>
              </a:rPr>
              <a:t>Под моделью системы понимается описание системы, отображающее определенную группу ее свойств. Углубление описания - детализация модели. Создание модели системы позволяет предсказывать ее поведение в определенном диапазоне услов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МОДЕЛИРОВАНИЕ</a:t>
            </a:r>
            <a:r>
              <a:rPr b="0" lang="ru-RU" sz="2000" spc="-1" strike="noStrike">
                <a:solidFill>
                  <a:srgbClr val="000000"/>
                </a:solidFill>
                <a:latin typeface="Calibri"/>
              </a:rPr>
              <a:t> – представление процесса или ситуации с помощью модели. Применяется для исследования и/или управления. Процедуры моделирования используются как в чисто теоретических (математика, логика), так и в прикладных сферах. Можно выделить два типа моделирования, основанные на двух различных определениях модел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Равновеcие</a:t>
            </a:r>
            <a:r>
              <a:rPr b="0" lang="ru-RU" sz="2000" spc="-1" strike="noStrike">
                <a:solidFill>
                  <a:srgbClr val="000000"/>
                </a:solidFill>
                <a:latin typeface="Calibri"/>
              </a:rPr>
              <a:t> - это способность системы в отсутствие внешних возмущающих воздействий (или при постоянных воздействиях) сохранить свое состояние сколь угодно долго.</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Устойчивость. </a:t>
            </a:r>
            <a:r>
              <a:rPr b="0" lang="ru-RU" sz="2000" spc="-1" strike="noStrike">
                <a:solidFill>
                  <a:srgbClr val="000000"/>
                </a:solidFill>
                <a:latin typeface="Calibri"/>
              </a:rPr>
              <a:t>Под устойчивостью понимается способность системы возвращаться в состояние равновесия после того, как она была из этого состояния выведена под влиянием внешних возмущающих воздействий. Эта способность обычно присуща системам , если только отклонения не превышают некоторого пре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5" name="Рисунок 3" descr=""/>
          <p:cNvPicPr/>
          <p:nvPr/>
        </p:nvPicPr>
        <p:blipFill>
          <a:blip r:embed="rId1"/>
          <a:stretch/>
        </p:blipFill>
        <p:spPr>
          <a:xfrm>
            <a:off x="900000" y="3500280"/>
            <a:ext cx="4962600" cy="22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ояние равновесия, в которое система способна возвращаться, по аналогии с техническими устройствами называют устойчивым состоянием равновесия. Равновесие и устойчивость в экономических и организационных системах - гораздо более сложные понятия, чем в технике, и, до недавнего времени, ими пользовались только для некоторого предварительного описательного представления о системе. В последнее время появились попытки формализованного отображения этих процессов и в сложных организационных системах, помогающие выявлять параметры, влияющие на их протекание и взаимосвязь.</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Развитие. </a:t>
            </a:r>
            <a:r>
              <a:rPr b="0" lang="ru-RU" sz="2000" spc="-1" strike="noStrike">
                <a:solidFill>
                  <a:srgbClr val="000000"/>
                </a:solidFill>
                <a:latin typeface="Calibri"/>
              </a:rPr>
              <a:t>Исследованию процесса развития, соотношения процессов развития и устойчивости, изучению механизмов, лежащих в их основе, уделяют в кибернетике и теории систем большое внимание. РАЗВИТИЕ – высший тип движения и изменения в природе и обществе, связанный с переходом от одного качества, состояния к другому, от старого к новому. Всякое развитие характеризуется специфическими объектами, структурой (механизмом), источником, формами и направленностью.</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89000"/>
            <a:ext cx="8229600" cy="5937120"/>
          </a:xfrm>
          <a:prstGeom prst="rect">
            <a:avLst/>
          </a:prstGeom>
          <a:noFill/>
          <a:ln w="0">
            <a:noFill/>
          </a:ln>
        </p:spPr>
        <p:txBody>
          <a:bodyPr anchor="t">
            <a:normAutofit/>
          </a:bodyPr>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00000"/>
                </a:solidFill>
                <a:latin typeface="Calibri"/>
              </a:rPr>
              <a:t>Цель.</a:t>
            </a:r>
            <a:r>
              <a:rPr b="0" lang="ru-RU" sz="1800" spc="-1" strike="noStrike">
                <a:solidFill>
                  <a:srgbClr val="000000"/>
                </a:solidFill>
                <a:latin typeface="Calibri"/>
              </a:rPr>
              <a:t> Применение понятия "цель" и связанных с ним понятий целенаправленности, целеустремленности, целесообразности сдерживается трудностью их однозначного толкования в конкретных условиях. Это связано с тем, что процесс целеобразования и соответствующий ему процесс обоснования целей в организационных системах весьма сложен и не до конца изучен. Его исследованию большое внимание уделяется в психологии, философии, кибернетике. </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Calibri"/>
              </a:rPr>
              <a:t>ЦЕЛЬ – идеальный или реальный предмет сознательного или бессознательного стремления субъекта; финальный результат, на который преднамеренно направлен процесс.</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философская проблема, понятие «цель» возникает в греческой философии начиная с эпохи Сократа. Досократовская философия практически не оперирует понятием цели, подчеркнуто противопоставляя мифологическим построениям свой метод объяснения бытия через понятие причины (αίτια), принимая лишь мифологему безличной судьбы. Слово «цель» (τελος) чаще всего в философских текстах означает «конец», «заверш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инергетике (Хакен, Пригожин) предпринята наиболее радикальная попытка заменить классическое понятие цели закономерностями самоорганизации «нелинейных систем».</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стоящее время в связи с усилением программно-целевых принципов в планировании исследованию закономерностей целеобразования и представления целей в конкретных условиях уделяется все больше внимания. Например: энергетическая программа, продовольственная программа, жилищная програм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ff0000"/>
                </a:solidFill>
                <a:uFillTx/>
                <a:latin typeface="Calibri"/>
              </a:rPr>
              <a:t>Понятие цели лежит в основе развития системы.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04280"/>
            <a:ext cx="8229600" cy="5721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ребность в использовании понятия «система» возникала для объектов различной физической природы с древних времен: еще Аристотель обратил внимание на то, что целое (т. е. система) несводимо к сумме частей, его образующих. Сейчас ученые, изучающие общую теорию систем, провозгласили «</a:t>
            </a:r>
            <a:r>
              <a:rPr b="0" lang="ru-RU" sz="1800" spc="-1" strike="noStrike">
                <a:solidFill>
                  <a:srgbClr val="ff0000"/>
                </a:solidFill>
                <a:latin typeface="Calibri"/>
              </a:rPr>
              <a:t>принцип эмерджент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нцип эмерджентности заключается в том, что свойства целого не сводятся к простой сумме свойств составляющих его частей, а при объединении частей в целое образуется новое качество, не присущее отдельным частям.</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Представьте себе группу не знакомых друг с другом людей, оружие в штабелях, обмундирование, хранящееся на складе, технику на стоянке. Такие разрозненные объекты не способны к ведению боевых действий. А если тех же людей вооружить, обмундировать, придать им боевую технику, организовать в подразделения, назначив командиров и установив подчиненность, то возникает новое качество – «боеспособнос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260280"/>
            <a:ext cx="8229600" cy="5865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попытаться дать общее определение для любых систем, то оно будет очень абстрактным и не удобным для практических целей, однако у всех систем, независимо от их физической природы, есть некоторые общие признаки.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Признаки системност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руктурированность, то есть возможность расчленения системы на составляющие компоненты; с одной стороны, система это целостное образование и представляет целостную совокупность элементов, а, с другой стороны, в системе четко можно выделить ее элементы (целостные объект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заимосвязанность отдельных частей, то есть наличие более или менее устойчивых связей (отношений) между элементами системы, превосходящих по своей силе (мощности) связи (отношения) этих элементов с элементами, не входящими в данную систему. В системах любой природы между элементами существуют  те или иные связи (отношения). При этом с системных позиций определяющими являются не любые связи, а только лишь существенные связи (отношения), которые определяют интегративные свойства системы.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052280"/>
            <a:ext cx="8229600" cy="5073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тивность системы, то есть наличие единых целей, свойств, качеств, присущих системе в целом, но не присущих ее элементам в отдельности. Интегративные свойства системы обуславливает тот факт, что свойство системы, несмотря на зависимость от свойств элементов, не определяется ими полностью. Из этого следует, что простая совокупность элементов и связей между ними еще не система, и поэтому, расчленяя систему на отдельные части (элементы) и изучая каждую из них в отдельности, нельзя познать все свойства нормально (хорошо) организованной системы в целом.</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Понятие «система» широко использовалось в различных областях знаний, и на определенной стадии развития научного знания теория систем оформилась в самостоятельную науку.</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259920"/>
            <a:ext cx="8229600" cy="6264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раткая история развития системных представлений</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уже было отмечено, зародились системные представления еще в древности. Из более поздних научных достижений можно назвать, во-первых, работы А. Ампер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дре Мари Ампер (1775-1836) – французский физик и математик, член Парижской АН, член Петербургской АН, профессор Нормальной школы в Париж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Ампер написал серию работ «Опыт о философии наук, или аналитическое изложение классификации человеческих знаний» (1834-1843 гг.). В них выделил науку об управлении государством и назвал ее «кибернетикой» (от греческого "κιβερ" - кормчий, рулевой, управляющий чем-то).</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го идеи развил польский философ Болеслав Трентовский, который в 1843 г. Опубликовал книгу «Отношение философии к кибернетике, как искусству управления народо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360"/>
            <a:ext cx="6346800" cy="266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ый вклад в становление системных представлений внес в начале XIX века А.А.Богданов. </a:t>
            </a:r>
            <a:endParaRPr b="0" lang="en-US" sz="20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лександр Александрович Богданов (Малиновский) – русский ученый, работавший в конце 19 – начале 20-го веков. Подвергался резкой критике Ленина за свои философские взгляды. После революции 1917 года был одним из научных советников властей. Возглавлял в Москве Институт по переливанию крови. Умер в 1928 г. в результате опыта по переливанию крови, который проводил на себ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1" name="Рисунок 3" descr=""/>
          <p:cNvPicPr/>
          <p:nvPr/>
        </p:nvPicPr>
        <p:blipFill>
          <a:blip r:embed="rId1"/>
          <a:stretch/>
        </p:blipFill>
        <p:spPr>
          <a:xfrm>
            <a:off x="6948360" y="404640"/>
            <a:ext cx="1714680" cy="2286000"/>
          </a:xfrm>
          <a:prstGeom prst="rect">
            <a:avLst/>
          </a:prstGeom>
          <a:ln w="0">
            <a:noFill/>
          </a:ln>
        </p:spPr>
      </p:pic>
      <p:sp>
        <p:nvSpPr>
          <p:cNvPr id="92" name="Прямоугольник 4"/>
          <p:cNvSpPr/>
          <p:nvPr/>
        </p:nvSpPr>
        <p:spPr>
          <a:xfrm>
            <a:off x="684360" y="2986200"/>
            <a:ext cx="8064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Богданов издал фундаментальный труд – трехтомник «Всеобщая организационная наука (тектология)» (1910-1920 гг.).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r>
              <a:rPr b="0" i="1" lang="ru-RU" sz="1800" spc="-1" strike="noStrike">
                <a:solidFill>
                  <a:srgbClr val="000000"/>
                </a:solidFill>
                <a:latin typeface="Arial"/>
                <a:ea typeface="Arial"/>
              </a:rPr>
              <a:t>Все явления являются процессами организации или дезорганизации. Все объекты имеют определенную степень организованности. Тектология призвана изучать общие закономерности организации. Что такое организованность? Чем уровень организованности выше, тем сильнее свойства целого отличаются от суммы свойств его частей.</a:t>
            </a:r>
            <a:r>
              <a:rPr b="0" lang="ru-RU"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огданов рассмотрел соотношение понятий устойчивость и изменчивость, показал значение обратных связей, роль открытых сист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404640"/>
            <a:ext cx="8229600" cy="583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так, философия явилась источником возникновения обобщающего направления, названного теорией систем. Основоположником этого направления считается биолог Л. фон Берталанф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юдвиг фон Берталанфи – австрийский биолог. Написал книгу «Общая теория систем» (1950 г.)</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60-е годы при постановке и исследовании сложных проблем проектирования и управления довольно широкое распространение получил термин системотехник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Богданов А.А. Всеобщая организационная наука (тектология). В 2-х кн. – М.: Наука, 1989.</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Л. фон Берталанфи. Общая теория систем: критический обзор // Исследования по общей теории систем. М.: Прогресс, 196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нительно к задачам управления в определенный период более широкое распространение получил термин кибернетика, введенный М.А.Ампером, принятый для названия новой «науки об управлении в живых организмах и машинах» Н.Винером. </a:t>
            </a:r>
            <a:endParaRPr b="0" lang="en-US" sz="18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инер Норберт (1894-1964) – американский ученый, «отец кибернетики». В 14 лет получил высшее математическое образование, в 18 лет – доктор философии Гарвардского университета (по математической логике). Учился в Кембридже (Англия) и Геттингене (Германия). Преподавал математику в ряде американских университетов. С 1919 г. – профессор Массачусетского технологического института – одного из крупнейших вузов США. Знал 10 языков. Написал две автобиографические книги «Я – вундеркинд» и «Я – математик».</a:t>
            </a:r>
            <a:endParaRPr b="0" lang="en-US" sz="14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ниге «Кибернетика как наука об управлении и связи в животном и машине» (1948 г.) заложил общие принципы управления. Показал формальное единство процессов, протекающих в системах различной природы. Немного позже издал книгу «Человеческое использование человеческих существ или Кибернетика и общество», где распространил полученные закономерности на социальные процесс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Винер Н. Кибернетика или Управление и связь в животном и машине. – М.: Наука, 1983. – 344 с.</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4:07Z</dcterms:modified>
  <cp:revision>178</cp:revision>
  <dc:subject/>
  <dc:title>Слайд 1</dc:title>
</cp:coreProperties>
</file>