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98454-9F02-47B5-B3A8-A25B1D5EF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8D83-EC82-4775-B84C-594A4DD9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CDBEF-F070-4197-95CD-F9087CAAD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46689-9993-4B51-9029-00903EF30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96FF1-8F39-430F-8741-072D737F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F0D06-DFF2-49BF-B7BF-DE67DDF89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2BC42-D828-45B4-B9E6-B5D67BDC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527C-5636-4C6B-8B72-130441C2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3E78A-DA17-4282-8E3F-7A0C3135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3BE1-3D1F-4DC1-A571-AA19E467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38E0-CC7C-4A23-8E50-18BC3F0C3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FA01F-58B7-4207-B1E6-3FE13440A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5AA5-29B0-4CD8-AC7B-AFDB68AF2EE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723680"/>
            <a:ext cx="8640720" cy="18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ОСНОВЫ ПРОГРАММИРОВАНИЯ И ТЕХНОЛОГИЙ ИСКУССТВЕННОГО ИНТЕЛЛЕКТА</a:t>
            </a:r>
            <a:br>
              <a:rPr sz="2800"/>
            </a:br>
            <a:r>
              <a:rPr b="0" lang="ru-RU" sz="2800" spc="-1" strike="noStrike">
                <a:solidFill>
                  <a:srgbClr val="00b050"/>
                </a:solidFill>
                <a:latin typeface="Arial"/>
              </a:rPr>
              <a:t>В СФЕРЕ МАРКЕТИНГА</a:t>
            </a:r>
            <a:br>
              <a:rPr sz="2800"/>
            </a:br>
            <a:r>
              <a:rPr b="0" lang="ru-RU" sz="2800" spc="-1" strike="noStrike">
                <a:solidFill>
                  <a:srgbClr val="000000"/>
                </a:solidFill>
                <a:latin typeface="Arial"/>
              </a:rPr>
              <a:t>Вводный курс</a:t>
            </a:r>
            <a:endParaRPr b="0" lang="en-US" sz="2800" spc="-1" strike="noStrike">
              <a:solidFill>
                <a:srgbClr val="000000"/>
              </a:solidFill>
              <a:latin typeface="Calibri"/>
            </a:endParaRPr>
          </a:p>
        </p:txBody>
      </p:sp>
      <p:sp>
        <p:nvSpPr>
          <p:cNvPr id="4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60280"/>
            <a:ext cx="8229600" cy="5865840"/>
          </a:xfrm>
          <a:prstGeom prst="rect">
            <a:avLst/>
          </a:prstGeom>
          <a:noFill/>
          <a:ln w="0">
            <a:noFill/>
          </a:ln>
        </p:spPr>
        <p:txBody>
          <a:bodyPr anchor="t">
            <a:normAutofit fontScale="98000"/>
          </a:bodyPr>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юбопытно, что исходная формулировка теста Тьюринга была несколько тоньше и интереснее. Действительно, очевидно, что этот тест задуман крайне несправедливо по отношению к компьютерным программам. Если представить себе «обратный тест Тьюринга», в котором человек попробовал бы выдать себя за компьютер, он мгновенно был бы раскрыт вопросом вроде «Сколько будет 723</a:t>
            </a:r>
            <a:r>
              <a:rPr b="0" lang="ru-RU" sz="1800" spc="-1" strike="noStrike" baseline="30000">
                <a:solidFill>
                  <a:srgbClr val="000000"/>
                </a:solidFill>
                <a:latin typeface="Calibri"/>
              </a:rPr>
              <a:t>3</a:t>
            </a:r>
            <a:r>
              <a:rPr b="0" lang="ru-RU" sz="1800" spc="-1" strike="noStrike">
                <a:solidFill>
                  <a:srgbClr val="000000"/>
                </a:solidFill>
                <a:latin typeface="Calibri"/>
              </a:rPr>
              <a:t>/271?». </a:t>
            </a:r>
            <a:endParaRPr b="0" lang="en-US" sz="18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ьюринг понимал, что человеку в предложенной им схеме </a:t>
            </a:r>
            <a:r>
              <a:rPr b="0" lang="ru-RU" sz="2000" spc="-1" strike="noStrike" u="sng">
                <a:solidFill>
                  <a:srgbClr val="000000"/>
                </a:solidFill>
                <a:uFillTx/>
                <a:latin typeface="Calibri"/>
              </a:rPr>
              <a:t>достаточно просто быть собой, а компьютеру надо выдавать себя за кого-то другого</a:t>
            </a:r>
            <a:r>
              <a:rPr b="0" lang="ru-RU" sz="2000" spc="-1" strike="noStrike">
                <a:solidFill>
                  <a:srgbClr val="000000"/>
                </a:solidFill>
                <a:latin typeface="Calibri"/>
              </a:rPr>
              <a:t>. Поэтому исходная формулировка была основана на популярной тогда </a:t>
            </a:r>
            <a:r>
              <a:rPr b="0" i="1" lang="ru-RU" sz="2000" spc="-1" strike="noStrike">
                <a:solidFill>
                  <a:srgbClr val="000000"/>
                </a:solidFill>
                <a:latin typeface="Calibri"/>
              </a:rPr>
              <a:t>имитационной игре, в которой мужчина и женщина письменно общаются с судьей</a:t>
            </a:r>
            <a:r>
              <a:rPr b="0" lang="ru-RU" sz="2000" spc="-1" strike="noStrike">
                <a:solidFill>
                  <a:srgbClr val="000000"/>
                </a:solidFill>
                <a:latin typeface="Calibri"/>
              </a:rPr>
              <a:t>.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дача мужчины — выдать себя за женщину, задача женщины — помочь судье правильно разобраться, кто есть кто. Тьюринг предложил сравнивать в этой игре результаты компьютера и живых мужчин: тогда обе стороны вынуждены будут имитировать кого-то третьего. </a:t>
            </a:r>
            <a:endParaRPr b="0" lang="en-US" sz="20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ам Тьюринг считал, что к 2000 году компьютеры с гигабайтом памяти смогут играть в имитационную игру так, чтобы убеждать человека в 30 % случаев (наилучшим результатом было бы 50 %, то есть в идеале решения судьи были бы неотличимы от бросания честной монетк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60280"/>
            <a:ext cx="8229600" cy="5865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ст Тьюринга помогает понять, сколько всего нужно сделать, чтобы суметь</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конструировать </a:t>
            </a:r>
            <a:r>
              <a:rPr b="1" lang="ru-RU" sz="1800" spc="-1" strike="noStrike">
                <a:solidFill>
                  <a:srgbClr val="000000"/>
                </a:solidFill>
                <a:latin typeface="Calibri"/>
              </a:rPr>
              <a:t>искусственный интеллект</a:t>
            </a:r>
            <a:r>
              <a:rPr b="0" lang="ru-RU" sz="1800" spc="-1" strike="noStrike">
                <a:solidFill>
                  <a:srgbClr val="000000"/>
                </a:solidFill>
                <a:latin typeface="Calibri"/>
              </a:rPr>
              <a:t>: здесь и </a:t>
            </a:r>
            <a:r>
              <a:rPr b="0" i="1" lang="ru-RU" sz="1800" spc="-1" strike="noStrike">
                <a:solidFill>
                  <a:srgbClr val="000000"/>
                </a:solidFill>
                <a:latin typeface="Calibri"/>
              </a:rPr>
              <a:t>обработка естественного языка</a:t>
            </a:r>
            <a:r>
              <a:rPr b="0" lang="ru-RU" sz="1800" spc="-1" strike="noStrike">
                <a:solidFill>
                  <a:srgbClr val="000000"/>
                </a:solidFill>
                <a:latin typeface="Calibri"/>
              </a:rPr>
              <a:t>, и </a:t>
            </a:r>
            <a:r>
              <a:rPr b="0" i="1" lang="ru-RU" sz="1800" spc="-1" strike="noStrike">
                <a:solidFill>
                  <a:srgbClr val="000000"/>
                </a:solidFill>
                <a:latin typeface="Calibri"/>
              </a:rPr>
              <a:t>представление знаний</a:t>
            </a:r>
            <a:r>
              <a:rPr b="0" lang="ru-RU" sz="1800" spc="-1" strike="noStrike">
                <a:solidFill>
                  <a:srgbClr val="000000"/>
                </a:solidFill>
                <a:latin typeface="Calibri"/>
              </a:rPr>
              <a:t>, и </a:t>
            </a:r>
            <a:r>
              <a:rPr b="0" i="1" lang="ru-RU" sz="1800" spc="-1" strike="noStrike">
                <a:solidFill>
                  <a:srgbClr val="000000"/>
                </a:solidFill>
                <a:latin typeface="Calibri"/>
              </a:rPr>
              <a:t>умение делать выводы из полученных знаний, в том числе и обучение на опыте</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тест Тьюринга сейчас практически не считается истинным тестом на то, являются ли машины мыслящими. Буквальная формулировка теста породила в наше время достаточно широко известную, но на самом деле не слишком научную деятельность по созданию чатботов, нацеленных на поддержание разговора с человеком. Одним из первых и самых известных таких ботов была </a:t>
            </a:r>
            <a:r>
              <a:rPr b="1" lang="ru-RU" sz="1800" spc="-1" strike="noStrike">
                <a:solidFill>
                  <a:srgbClr val="000000"/>
                </a:solidFill>
                <a:latin typeface="Calibri"/>
              </a:rPr>
              <a:t>ELIZA</a:t>
            </a:r>
            <a:r>
              <a:rPr b="0" lang="ru-RU" sz="1800" spc="-1" strike="noStrike">
                <a:solidFill>
                  <a:srgbClr val="000000"/>
                </a:solidFill>
                <a:latin typeface="Calibri"/>
              </a:rPr>
              <a:t> , которая еще в 60-е годы XX века могла вести беседу в стиле классического психоаналитика. А в 2014 году появилось (достаточно спорное) сообщение о том, что тест Тьюринга успешно прошел «Женя Густман» (Eugene Goostman), чатбот, созданный тремя русскоязычными программистами.</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еня» представляется собеседникам 13-летним мальчиком из Одессы, и люди часто списывают на это ошибки в английском языке, недопонимания и недостаток знаний. Но чатботы никогда даже не претендовали на то, чтобы «</a:t>
            </a:r>
            <a:r>
              <a:rPr b="0" lang="ru-RU" sz="1800" spc="-1" strike="noStrike" u="sng">
                <a:solidFill>
                  <a:srgbClr val="000000"/>
                </a:solidFill>
                <a:uFillTx/>
                <a:latin typeface="Calibri"/>
              </a:rPr>
              <a:t>действительно понимать» человеческий язык со всеми контекстами</a:t>
            </a: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04280"/>
            <a:ext cx="8229600" cy="5721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Можно проследить точное время и место зарождения науки об искусственном интеллекте.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956 году четыре отца-основателя искусственного интеллекта — Джон Маккарти (John McCarthy), Марвин Минский (Marvin Minsky), Натаниэль Рочестер (Nathaniel Rochester) и Клод Шеннон (Claude Shannon) — организовали Дартмутский семинар, знаменитую летнюю школу в Дартмуте.</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явка на проведение этого семинара была, пожалуй, самой амбициозной грантозаявкой в истории информатики. Вот что писал там Джон Маккарти: «</a:t>
            </a:r>
            <a:r>
              <a:rPr b="0" i="1" lang="ru-RU" sz="1800" spc="-1" strike="noStrike">
                <a:solidFill>
                  <a:srgbClr val="000000"/>
                </a:solidFill>
                <a:latin typeface="Calibri"/>
              </a:rPr>
              <a:t>Мы предлагаем исследование искусственного интеллекта сроком на два месяца с участием десяти человек летом 1956 года в Дартмутском колледже, Гановер, Нью-Гемпшир. Исследование основано на предположении, что всякий аспект обучения или любое другое свойство интеллекта может в принципе быть столь точно описано, что машина сможет его имитировать. Мы попытаемся понять, как обучить машины использовать естественные языки, формировать абстракции и концепции, решать задачи, сейчас подвластные только людям, и улучшать самих себя. Мы считаем, что существенное продвижение в одной или более из этих проблем вполне возможно, если специально подобранная группа ученых будет работать над этим в течение лета</a:t>
            </a: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В середине 2000-х годов в машинном обучении началась революция</a:t>
            </a:r>
            <a:r>
              <a:rPr b="0" lang="ru-RU" sz="2000" spc="-1" strike="noStrike">
                <a:solidFill>
                  <a:srgbClr val="000000"/>
                </a:solidFill>
                <a:latin typeface="Calibri"/>
              </a:rPr>
              <a:t>. В 2005–2006 годах группы исследователей под руководством Джеффри Хинтона (Geoffrey Hinton) в университете Торонто и Йошуа Бенджи (Yoshua Bengio) в университете Монреаля научились обучать глубокие нейронные сети. Это перевернуло весь мир машинного обучения! Теперь в самых разнообразных предметных областях лучшие результаты получаются с помощью глубоких нейронных сетей.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им из первых громких промышленных успехов стало распознавание речи: разработанные группой Хинтона глубокие сети очень быстро радикально улучшили результаты распознавания по сравнению с оттачивавшимися десятилетиями классическими подходами, и сегодня любой распознаватель, включая голосовые помощники вроде Apple Siri, работает исключительно на глубоких нейронных сетях. А сейчас, к 2020 году, люди научились обучать самые разные архитектуры глубоких нейронных сетей, и те решают абсолютно разные задачи: от распознавания лиц до вождения автомобилей и игры в г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60280"/>
            <a:ext cx="8229600" cy="6337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идеи большинства таких моделей появились еще в 80–90-х годах XX века, а то и раньше. Искусственные нейронные сети стали предметом исследований очень давно; они были одной из первых хорошо оформленных идей искусственного интеллекта, когда и слов-то таких — «искусственный интеллект» — еще никто не слышал.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начала 90-х годов XX века до середины нулевых </a:t>
            </a:r>
            <a:r>
              <a:rPr b="0" lang="en-US" sz="1800" spc="-1" strike="noStrike">
                <a:solidFill>
                  <a:srgbClr val="000000"/>
                </a:solidFill>
                <a:latin typeface="Calibri"/>
              </a:rPr>
              <a:t>XXI</a:t>
            </a:r>
            <a:r>
              <a:rPr b="0" lang="ru-RU" sz="1800" spc="-1" strike="noStrike">
                <a:solidFill>
                  <a:srgbClr val="000000"/>
                </a:solidFill>
                <a:latin typeface="Calibri"/>
              </a:rPr>
              <a:t> нейронные сети были, мягко говоря, не в моде. Известный исследователь нейронных сетей Джон Денкер (John Denker) в 1994 году сказал:</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йронные сети — это второй лучший способ сделать практически что угодно».</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йствительно, на тот момент уже было известно, что нейронная сеть теоретически может приблизить любую функцию и обучиться решать любую задачу, а глубокая нейронная сеть способна еще и более эффективно решить гораздо больше разных задач... Но обучать глубокие сети никому не удавалось, другие методы на конкретных практических примерах работали лучше. Из общих методов машинного обучения это были сначала «ядерные методы» (kernel methods), в частности метод опорных векторов, а затем байесовские сети и в целом графические вероятностные модели. Денкер вел речь о том, что более простая вероятностная модель, разработанная специально с учетом специфики конкретной задачи, обычно работала лучше, чем нейронная сеть «общего назначения», даже если выбрать ей подходящую для задачи архитектур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60280"/>
            <a:ext cx="8229600" cy="586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предложенное группой Хинтона в середине 2000-х годов, пришло в виде </a:t>
            </a:r>
            <a:r>
              <a:rPr b="0" i="1" lang="ru-RU" sz="2000" spc="-1" strike="noStrike">
                <a:solidFill>
                  <a:srgbClr val="000000"/>
                </a:solidFill>
                <a:latin typeface="Calibri"/>
              </a:rPr>
              <a:t>предобучения без учителя</a:t>
            </a:r>
            <a:r>
              <a:rPr b="0" lang="ru-RU" sz="2000" spc="-1" strike="noStrike">
                <a:solidFill>
                  <a:srgbClr val="000000"/>
                </a:solidFill>
                <a:latin typeface="Calibri"/>
              </a:rPr>
              <a:t>, когда сеть сначала обучается на большом наборе данных без разметки, а потом уже </a:t>
            </a:r>
            <a:r>
              <a:rPr b="0" i="1" lang="ru-RU" sz="2000" spc="-1" strike="noStrike">
                <a:solidFill>
                  <a:srgbClr val="000000"/>
                </a:solidFill>
                <a:latin typeface="Calibri"/>
              </a:rPr>
              <a:t>дообучается на размеченных данных</a:t>
            </a:r>
            <a:r>
              <a:rPr b="0" lang="ru-RU" sz="2000" spc="-1" strike="noStrike">
                <a:solidFill>
                  <a:srgbClr val="000000"/>
                </a:solidFill>
                <a:latin typeface="Calibri"/>
              </a:rPr>
              <a:t>, используя это приближение.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ример, если мы хотим распознавать человеческие лица, то давайте сначала пообучаем нейронную сеть на фотографиях с людьми вообще, без разметки (таких фотографий можно легко набрать сколь угодно много), а уже потом, когда сеть «насмотрится» на неразмеченные фотографии, дообучим ее на имеющемся размеченном наборе данных.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алось, что при этом конечный результат становится намного лучше, а хорошие и интересные признаки сеть начинает выделять еще на этапе предобучения без учителя. Именно таким образом произошел, в частности, прорыв в распознавании речи.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260280"/>
            <a:ext cx="8229600" cy="586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ы предобучения без учителя оказались лишь «спусковым крючком» для революции глубокого обучения.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торой важнейшей причиной стал, собственно, прогресс в вычислительной технике и в размерах доступных для обучения наборов данных.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развитием Интернета данных становилось все больше: например, классический набор данных </a:t>
            </a:r>
            <a:r>
              <a:rPr b="1" lang="ru-RU" sz="2000" spc="-1" strike="noStrike">
                <a:solidFill>
                  <a:srgbClr val="000000"/>
                </a:solidFill>
                <a:latin typeface="Calibri"/>
              </a:rPr>
              <a:t>MNIST</a:t>
            </a:r>
            <a:r>
              <a:rPr b="0" lang="ru-RU" sz="2000" spc="-1" strike="noStrike">
                <a:solidFill>
                  <a:srgbClr val="000000"/>
                </a:solidFill>
                <a:latin typeface="Calibri"/>
              </a:rPr>
              <a:t>, на котором добрый десяток лет тестировались модели компьютерного зрения, — это 70 тысяч изображений рукописных цифр размером 28</a:t>
            </a:r>
            <a:r>
              <a:rPr b="0" lang="en-US" sz="2000" spc="-1" strike="noStrike">
                <a:solidFill>
                  <a:srgbClr val="000000"/>
                </a:solidFill>
                <a:latin typeface="Calibri"/>
              </a:rPr>
              <a:t>x</a:t>
            </a:r>
            <a:r>
              <a:rPr b="0" lang="ru-RU" sz="2000" spc="-1" strike="noStrike">
                <a:solidFill>
                  <a:srgbClr val="000000"/>
                </a:solidFill>
                <a:latin typeface="Calibri"/>
              </a:rPr>
              <a:t>28 пикселов, суммарно около 10 Мбайт данных; а современный стандартный датасет для моделей компьютерного зрения </a:t>
            </a:r>
            <a:r>
              <a:rPr b="1" lang="ru-RU" sz="2000" spc="-1" strike="noStrike">
                <a:solidFill>
                  <a:srgbClr val="000000"/>
                </a:solidFill>
                <a:latin typeface="Calibri"/>
              </a:rPr>
              <a:t>ImageNet</a:t>
            </a:r>
            <a:r>
              <a:rPr b="0" lang="ru-RU" sz="2000" spc="-1" strike="noStrike">
                <a:solidFill>
                  <a:srgbClr val="000000"/>
                </a:solidFill>
                <a:latin typeface="Calibri"/>
              </a:rPr>
              <a:t> содержит уже около 1,2 Тбайт изображений.</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тье – это продвижения в самих алгоритмах обучения, в том числе чисто «железные» продвижения: обучение современных нейронных сетей обычно происходит на графических процессорах (GPU, то есть по сути на видеокартах), что часто позволяет ускорить процесс в десятки раз. Эта идея появилась около 2006 года и стала важной частью революции глубокого обуч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04280"/>
            <a:ext cx="8229600" cy="572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вивались и общие методы обучения нейронных сетей, и классические архитектуры нейронных сетей — сверточные сети и автокодировщики, рекуррентные сети.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о появлялись и совершенно новые архитектуры: порождающие состязательные сети сумели превратить нейронные сети в порождающие модели, нейронные сети в обучении с подкреплением  привели к невиданным ранее прорывам, нейробайесовские методы  соединили нейронные сети и классический вероятностный вывод с помощью вариационных приближений, а нужды конкретных приложений привели в разработке таких новых архитектур, как сети с вниманием и сети с памятью, которые уже находят и другие примен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64640"/>
            <a:ext cx="8229600" cy="5759640"/>
          </a:xfrm>
          <a:prstGeom prst="rect">
            <a:avLst/>
          </a:prstGeom>
          <a:noFill/>
          <a:ln w="0">
            <a:noFill/>
          </a:ln>
        </p:spPr>
        <p:txBody>
          <a:bodyPr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ашинное обучение (</a:t>
            </a:r>
            <a:r>
              <a:rPr b="1" lang="en-US" sz="2800" spc="-1" strike="noStrike">
                <a:solidFill>
                  <a:srgbClr val="000000"/>
                </a:solidFill>
                <a:latin typeface="Calibri"/>
              </a:rPr>
              <a:t>machine learning)</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туитивно понятно, что «</a:t>
            </a:r>
            <a:r>
              <a:rPr b="1" lang="ru-RU" sz="2000" spc="-1" strike="noStrike">
                <a:solidFill>
                  <a:srgbClr val="000000"/>
                </a:solidFill>
                <a:latin typeface="Calibri"/>
              </a:rPr>
              <a:t>обучение</a:t>
            </a:r>
            <a:r>
              <a:rPr b="0" lang="ru-RU" sz="2000" spc="-1" strike="noStrike">
                <a:solidFill>
                  <a:srgbClr val="000000"/>
                </a:solidFill>
                <a:latin typeface="Calibri"/>
              </a:rPr>
              <a:t>» — это когда некая модель каким-то образом «обучается», а потом начинает выдавать результаты, то есть, скорее всего, что-то предсказывать. Можно даже дать очень общее определение «обучаемости», примерно такое, какое дает Томас Митчелл в классической книге «Машинное обучение»: «</a:t>
            </a:r>
            <a:r>
              <a:rPr b="0" i="1" lang="ru-RU" sz="2000" spc="-1" strike="noStrike">
                <a:solidFill>
                  <a:srgbClr val="000000"/>
                </a:solidFill>
                <a:latin typeface="Calibri"/>
              </a:rPr>
              <a:t>Компьютерная программа обучается по мере накопления опыта относительно некоторого класса задач T и целевой функции P, если качество решения этих задач (относительно P) улучшается с получением нового опыта</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отя это определение звучит чрезвычайно обобщенно и абстрактно, оно на самом деле позволяет прояснить некоторые важные моменты. Например, центральное место в нем занимают </a:t>
            </a:r>
            <a:r>
              <a:rPr b="0" i="1" lang="ru-RU" sz="2000" spc="-1" strike="noStrike">
                <a:solidFill>
                  <a:srgbClr val="000000"/>
                </a:solidFill>
                <a:latin typeface="Calibri"/>
              </a:rPr>
              <a:t>не данные </a:t>
            </a:r>
            <a:r>
              <a:rPr b="0" lang="ru-RU" sz="2000" spc="-1" strike="noStrike">
                <a:solidFill>
                  <a:srgbClr val="000000"/>
                </a:solidFill>
                <a:latin typeface="Calibri"/>
              </a:rPr>
              <a:t>(хотя они тоже есть), а </a:t>
            </a:r>
            <a:r>
              <a:rPr b="0" i="1" lang="ru-RU" sz="2000" spc="-1" strike="noStrike">
                <a:solidFill>
                  <a:srgbClr val="000000"/>
                </a:solidFill>
                <a:latin typeface="Calibri"/>
              </a:rPr>
              <a:t>целевая функция</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бор целевой функции полностью определяет всю дальнейшую работу, и даже в похожих задачах разные целевые функции могут привести к совершенно разным модел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r>
              <a:rPr b="0" lang="ru-RU" sz="4400" spc="-1" strike="noStrike">
                <a:solidFill>
                  <a:srgbClr val="000000"/>
                </a:solidFill>
                <a:latin typeface="Calibri"/>
              </a:rPr>
              <a:t>:</a:t>
            </a:r>
            <a:endParaRPr b="0" lang="en-US" sz="4400" spc="-1" strike="noStrike">
              <a:solidFill>
                <a:srgbClr val="000000"/>
              </a:solidFill>
              <a:latin typeface="Calibri"/>
            </a:endParaRPr>
          </a:p>
        </p:txBody>
      </p:sp>
      <p:sp>
        <p:nvSpPr>
          <p:cNvPr id="44" name=""/>
          <p:cNvSpPr txBox="1"/>
          <p:nvPr/>
        </p:nvSpPr>
        <p:spPr>
          <a:xfrm>
            <a:off x="457200" y="2491920"/>
            <a:ext cx="822960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ы современных интеллектуальных</a:t>
            </a:r>
            <a:endParaRPr b="0" lang="en-US" sz="3500" spc="-1" strike="noStrike">
              <a:solidFill>
                <a:srgbClr val="000000"/>
              </a:solidFill>
              <a:latin typeface="Calibri"/>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информационных технологий</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76280"/>
            <a:ext cx="8229600" cy="61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ример, было бы здорово «научить компьютер читать», но сначала нужно определить, что это, собственно, значит. Уметь правильно отвечать на вопросы по «прочитанному» тексту? Сделать синтаксический разбор предложения? Показать самые релевантные данному тексту статьи «Википедии»?</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Разные ответы приводят к разным моделям и направлениям исследований.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ая классификация задач машинного обучения показана на рис. 1.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основных класса задач машинного обучения — это задачи </a:t>
            </a:r>
            <a:r>
              <a:rPr b="0" i="1" lang="ru-RU" sz="2000" spc="-1" strike="noStrike">
                <a:solidFill>
                  <a:srgbClr val="000000"/>
                </a:solidFill>
                <a:latin typeface="Calibri"/>
              </a:rPr>
              <a:t>обучения с учителем </a:t>
            </a:r>
            <a:r>
              <a:rPr b="0" lang="ru-RU" sz="2000" spc="-1" strike="noStrike">
                <a:solidFill>
                  <a:srgbClr val="000000"/>
                </a:solidFill>
                <a:latin typeface="Calibri"/>
              </a:rPr>
              <a:t>(</a:t>
            </a:r>
            <a:r>
              <a:rPr b="0" i="1" lang="ru-RU" sz="2000" spc="-1" strike="noStrike">
                <a:solidFill>
                  <a:srgbClr val="000000"/>
                </a:solidFill>
                <a:latin typeface="Calibri"/>
              </a:rPr>
              <a:t>supervised learning</a:t>
            </a:r>
            <a:r>
              <a:rPr b="0" lang="ru-RU" sz="2000" spc="-1" strike="noStrike">
                <a:solidFill>
                  <a:srgbClr val="000000"/>
                </a:solidFill>
                <a:latin typeface="Calibri"/>
              </a:rPr>
              <a:t>) и </a:t>
            </a:r>
            <a:r>
              <a:rPr b="0" i="1" lang="ru-RU" sz="2000" spc="-1" strike="noStrike">
                <a:solidFill>
                  <a:srgbClr val="000000"/>
                </a:solidFill>
                <a:latin typeface="Calibri"/>
              </a:rPr>
              <a:t>обучения без учителя </a:t>
            </a:r>
            <a:r>
              <a:rPr b="0" lang="ru-RU" sz="2000" spc="-1" strike="noStrike">
                <a:solidFill>
                  <a:srgbClr val="000000"/>
                </a:solidFill>
                <a:latin typeface="Calibri"/>
              </a:rPr>
              <a:t>(</a:t>
            </a:r>
            <a:r>
              <a:rPr b="0" i="1" lang="ru-RU" sz="2000" spc="-1" strike="noStrike">
                <a:solidFill>
                  <a:srgbClr val="000000"/>
                </a:solidFill>
                <a:latin typeface="Calibri"/>
              </a:rPr>
              <a:t>unsupervised learning</a:t>
            </a:r>
            <a:r>
              <a:rPr b="0" lang="ru-RU" sz="2000" spc="-1" strike="noStrike">
                <a:solidFill>
                  <a:srgbClr val="000000"/>
                </a:solidFill>
                <a:latin typeface="Calibri"/>
              </a:rPr>
              <a:t>). </a:t>
            </a:r>
            <a:endParaRPr b="0" lang="en-US" sz="2000" spc="-1" strike="noStrike">
              <a:solidFill>
                <a:srgbClr val="000000"/>
              </a:solidFill>
              <a:latin typeface="Calibri"/>
            </a:endParaRPr>
          </a:p>
        </p:txBody>
      </p:sp>
      <p:pic>
        <p:nvPicPr>
          <p:cNvPr id="71" name="Рисунок 1" descr=""/>
          <p:cNvPicPr/>
          <p:nvPr/>
        </p:nvPicPr>
        <p:blipFill>
          <a:blip r:embed="rId1"/>
          <a:stretch/>
        </p:blipFill>
        <p:spPr>
          <a:xfrm>
            <a:off x="2411280" y="4005360"/>
            <a:ext cx="4226040" cy="241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3" descr=""/>
          <p:cNvPicPr/>
          <p:nvPr/>
        </p:nvPicPr>
        <p:blipFill>
          <a:blip r:embed="rId1"/>
          <a:stretch/>
        </p:blipFill>
        <p:spPr>
          <a:xfrm>
            <a:off x="971640" y="274680"/>
            <a:ext cx="7200720" cy="4883040"/>
          </a:xfrm>
          <a:prstGeom prst="rect">
            <a:avLst/>
          </a:prstGeom>
          <a:ln w="0">
            <a:noFill/>
          </a:ln>
        </p:spPr>
      </p:pic>
      <p:sp>
        <p:nvSpPr>
          <p:cNvPr id="73" name="Прямоугольник 4"/>
          <p:cNvSpPr/>
          <p:nvPr/>
        </p:nvSpPr>
        <p:spPr>
          <a:xfrm>
            <a:off x="971640" y="5373720"/>
            <a:ext cx="72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ис. 1. Общая классификация постановок зада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машинного обуч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33000"/>
            <a:ext cx="8229600" cy="5792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обучении с учителем на вход подается набор тренировочных примеров, который обычно называют обучающим или тренировочным набором данных (</a:t>
            </a:r>
            <a:r>
              <a:rPr b="0" i="1" lang="ru-RU" sz="1800" spc="-1" strike="noStrike">
                <a:solidFill>
                  <a:srgbClr val="000000"/>
                </a:solidFill>
                <a:latin typeface="Calibri"/>
              </a:rPr>
              <a:t>training set или training sample </a:t>
            </a:r>
            <a:r>
              <a:rPr b="0" lang="ru-RU" sz="1800" spc="-1" strike="noStrike">
                <a:solidFill>
                  <a:srgbClr val="000000"/>
                </a:solidFill>
                <a:latin typeface="Calibri"/>
              </a:rPr>
              <a:t>— </a:t>
            </a:r>
            <a:r>
              <a:rPr b="0" i="1" lang="ru-RU" sz="1800" spc="-1" strike="noStrike">
                <a:solidFill>
                  <a:srgbClr val="000000"/>
                </a:solidFill>
                <a:latin typeface="Calibri"/>
              </a:rPr>
              <a:t>тренировочная выборка</a:t>
            </a:r>
            <a:r>
              <a:rPr b="0" lang="ru-RU" sz="1800" spc="-1" strike="noStrike">
                <a:solidFill>
                  <a:srgbClr val="000000"/>
                </a:solidFill>
                <a:latin typeface="Calibri"/>
              </a:rPr>
              <a:t>), и задача состоит в том, чтобы продолжить уже известные ответы на новый опыт, выраженный обычно в виде тестового набора данных (</a:t>
            </a:r>
            <a:r>
              <a:rPr b="0" i="1" lang="ru-RU" sz="1800" spc="-1" strike="noStrike">
                <a:solidFill>
                  <a:srgbClr val="000000"/>
                </a:solidFill>
                <a:latin typeface="Calibri"/>
              </a:rPr>
              <a:t>test set</a:t>
            </a:r>
            <a:r>
              <a:rPr b="0" lang="ru-RU" sz="1800" spc="-1" strike="noStrike">
                <a:solidFill>
                  <a:srgbClr val="000000"/>
                </a:solidFill>
                <a:latin typeface="Calibri"/>
              </a:rPr>
              <a:t>, </a:t>
            </a:r>
            <a:r>
              <a:rPr b="0" i="1" lang="ru-RU" sz="1800" spc="-1" strike="noStrike">
                <a:solidFill>
                  <a:srgbClr val="000000"/>
                </a:solidFill>
                <a:latin typeface="Calibri"/>
              </a:rPr>
              <a:t>test sample</a:t>
            </a:r>
            <a:r>
              <a:rPr b="0" lang="ru-RU" sz="1800" spc="-1" strike="noStrike">
                <a:solidFill>
                  <a:srgbClr val="000000"/>
                </a:solidFill>
                <a:latin typeface="Calibri"/>
              </a:rPr>
              <a:t>).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новное предположение здесь в том, что данные, доступные для обучения, будут чем-то похожи на данные, на которых потом придется применять обученную модель, иначе никакое обобщение будет невозможно.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чтения» текста пример обучения с учителем — это обучение модели, которая строит деревья синтаксического разбора предложений (какие слова от каких зависят) по набору деревьев, построенных людьми для конкретных предложений. Предположение здесь в том, что деревья разбора строятся по одним и тем же законам, и модель, обученную на некотором наборе деревьев разбора, можно будет применить и к новым предложениям, не входящим в обучающий набор.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это предположение нарушится, модель работать не будет. Например, если лингвисты размечали предложения на английском языке, а потом применили обученную модель к немецкому, где буквы примерно те же, но синтаксис совершенно другой, ожидать от модели разумного поведения не стои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дачи обучения с учителем обычно делятся на </a:t>
            </a:r>
            <a:r>
              <a:rPr b="0" i="1" lang="ru-RU" sz="2000" spc="-1" strike="noStrike">
                <a:solidFill>
                  <a:srgbClr val="000000"/>
                </a:solidFill>
                <a:latin typeface="Calibri"/>
              </a:rPr>
              <a:t>задачи классификации и регрессии</a:t>
            </a:r>
            <a:r>
              <a:rPr b="0" lang="ru-RU" sz="2000" spc="-1" strike="noStrike">
                <a:solidFill>
                  <a:srgbClr val="000000"/>
                </a:solidFill>
                <a:latin typeface="Calibri"/>
              </a:rPr>
              <a:t>. В задаче </a:t>
            </a:r>
            <a:r>
              <a:rPr b="0" lang="ru-RU" sz="2000" spc="-1" strike="noStrike" u="sng">
                <a:solidFill>
                  <a:srgbClr val="000000"/>
                </a:solidFill>
                <a:uFillTx/>
                <a:latin typeface="Calibri"/>
              </a:rPr>
              <a:t>классификации</a:t>
            </a:r>
            <a:r>
              <a:rPr b="0" lang="ru-RU" sz="2000" spc="-1" strike="noStrike">
                <a:solidFill>
                  <a:srgbClr val="000000"/>
                </a:solidFill>
                <a:latin typeface="Calibri"/>
              </a:rPr>
              <a:t> нужно поданный на вход объект определить в один из (обычно конечного числа) классов, например, разделить фотографии животных на кошек, собак, лошадей и «все остальное»; или по фотографии человеческого лица понять, кто из ваших друзей в социальной сети на ней изображен.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ли продолжать пример с языком, то типичная задача классификации — это разметка слов по частям речи. А в задаче </a:t>
            </a:r>
            <a:r>
              <a:rPr b="0" lang="ru-RU" sz="2000" spc="-1" strike="noStrike" u="sng">
                <a:solidFill>
                  <a:srgbClr val="000000"/>
                </a:solidFill>
                <a:uFillTx/>
                <a:latin typeface="Calibri"/>
              </a:rPr>
              <a:t>регрессии</a:t>
            </a:r>
            <a:r>
              <a:rPr b="0" lang="ru-RU" sz="2000" spc="-1" strike="noStrike">
                <a:solidFill>
                  <a:srgbClr val="000000"/>
                </a:solidFill>
                <a:latin typeface="Calibri"/>
              </a:rPr>
              <a:t> нужно предсказать значение некоей функции, у которой обычно может быть бесконечно много разных значений. Например, по росту человека предсказать его вес, сделать прогноз завтрашней погоды, предсказать цену акции или, скажем, выделить на фотографии прямоугольник, в котором находится человеческое лицо — сделать это необходимо, чтобы затем эти прямоугольники подать на вход упомянутому выше классификато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260280"/>
            <a:ext cx="8229600" cy="58658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ление на регрессию и классификацию, конечно, очень условно, можно легко придумать «промежуточные» примеры (тот же разбор предложения — </a:t>
            </a:r>
            <a:r>
              <a:rPr b="0" i="1" lang="ru-RU" sz="1800" spc="-1" strike="noStrike">
                <a:solidFill>
                  <a:srgbClr val="000000"/>
                </a:solidFill>
                <a:latin typeface="Calibri"/>
              </a:rPr>
              <a:t>к какому классу отнести задачу «построить дерево</a:t>
            </a:r>
            <a:r>
              <a:rPr b="0" lang="ru-RU" sz="1800" spc="-1" strike="noStrike">
                <a:solidFill>
                  <a:srgbClr val="000000"/>
                </a:solidFill>
                <a:latin typeface="Calibri"/>
              </a:rPr>
              <a:t>»?). Но обычно ясно, какую задачу мы решаем, и это деление имеет содержательный смысл: меняются целевые функции и, как следствие, процесс обучения.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есть и откровенно иные виды задач, не укладывающиеся в эту несложную классификацию. Например, в поисковых и рекомендательных системах часто встречается задача обучения ранжирования (</a:t>
            </a:r>
            <a:r>
              <a:rPr b="0" i="1" lang="ru-RU" sz="1800" spc="-1" strike="noStrike">
                <a:solidFill>
                  <a:srgbClr val="000000"/>
                </a:solidFill>
                <a:latin typeface="Calibri"/>
              </a:rPr>
              <a:t>learning to rank</a:t>
            </a:r>
            <a:r>
              <a:rPr b="0" lang="ru-RU" sz="1800" spc="-1" strike="noStrike">
                <a:solidFill>
                  <a:srgbClr val="000000"/>
                </a:solidFill>
                <a:latin typeface="Calibri"/>
              </a:rPr>
              <a:t>). Она ставится так: по имеющимся данным (в поисковой системе это будут тексты документов и прошлое поведение пользователей) отранжировать, расставить имеющиеся объекты в порядке убывания целевой функции (в поисковой системе она называется релевантностью: насколько данный документ подходит, чтобы выдать его в ответ на данный запрос).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та задача чем-то похожа на задачу регрессии — нам так или иначе нужно предсказывать непрерывную целевую функцию, ту самую релевантность. Но при этом значений самой функции в данных совсем нет, да они нам и не важны. Имеют значение только результаты сравнения этой функции на разных объектах (какой документ будет выше другого в поисковой выдаче). Это приводит к ряду интересных и специфических методов обуч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33360"/>
            <a:ext cx="8229600" cy="6191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же размеченного набора данных, соответствующего конкретной задаче, нет, а есть просто данные, в которых надо «</a:t>
            </a:r>
            <a:r>
              <a:rPr b="0" i="1" lang="ru-RU" sz="1800" spc="-1" strike="noStrike">
                <a:solidFill>
                  <a:srgbClr val="000000"/>
                </a:solidFill>
                <a:latin typeface="Calibri"/>
              </a:rPr>
              <a:t>найти какой-нибудь смысл</a:t>
            </a:r>
            <a:r>
              <a:rPr b="0" lang="ru-RU" sz="1800" spc="-1" strike="noStrike">
                <a:solidFill>
                  <a:srgbClr val="000000"/>
                </a:solidFill>
                <a:latin typeface="Calibri"/>
              </a:rPr>
              <a:t>», то возникают задачи обучения без учителя. Типичнейший пример задачи обучения без учителя — это </a:t>
            </a:r>
            <a:r>
              <a:rPr b="0" i="1" lang="ru-RU" sz="1800" spc="-1" strike="noStrike">
                <a:solidFill>
                  <a:srgbClr val="000000"/>
                </a:solidFill>
                <a:latin typeface="Calibri"/>
              </a:rPr>
              <a:t>кластеризация (clustering</a:t>
            </a:r>
            <a:r>
              <a:rPr b="0" lang="ru-RU" sz="1800" spc="-1" strike="noStrike">
                <a:solidFill>
                  <a:srgbClr val="000000"/>
                </a:solidFill>
                <a:latin typeface="Calibri"/>
              </a:rPr>
              <a:t>): нужно разбить данные на заранее неизвестные классы по некоторой мере похожести так, чтобы точки, отнесенные к одному и тому же кластеру, были как можно ближе друг к другу, как можно более похожи, а точки из разных кластеров были бы как можно дальше друг от друга, как можно менее похожи.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пример, решив задачу кластеризации, можно выделить семейства генов из последовательностей нуклеотидов, или кластеризовать пользователей вашего веб-сайта и персонализовать его под каждый кластер, или сегментировать медицинский снимок, чтобы легко было понять, где же там опухоль.</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ще одна часто встречающаяся задача обучения без учителя — это снижение размерности (</a:t>
            </a:r>
            <a:r>
              <a:rPr b="0" i="1" lang="ru-RU" sz="1800" spc="-1" strike="noStrike">
                <a:solidFill>
                  <a:srgbClr val="000000"/>
                </a:solidFill>
                <a:latin typeface="Calibri"/>
              </a:rPr>
              <a:t>dimensionality reduction</a:t>
            </a:r>
            <a:r>
              <a:rPr b="0" lang="ru-RU" sz="1800" spc="-1" strike="noStrike">
                <a:solidFill>
                  <a:srgbClr val="000000"/>
                </a:solidFill>
                <a:latin typeface="Calibri"/>
              </a:rPr>
              <a:t>), когда входные данные имеют большую размерность (например, если у вас на входе разбитый на слова текст, размерность будет исчисляться десятками тысяч, а если фотографии — миллионами), а задача состоит в том, чтобы построить представление данных меньшей размерности, которое тем не менее будет достаточно полно отражать исходные данные.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476280"/>
            <a:ext cx="8229600" cy="56498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редко в жизни возникает нечто среднее между обучением с учителем и обучением без учителя. Так обычно получается тогда, когда неразмеченные примеры найти очень легко, а размеченные получить сложно. Например, во все том же примере с синтаксическим разбором набрать сколько угодно неразмеченных текстов не представляет никакой сложности, а вот вручную нарисовать даже одно дерево нелегко.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умайтесь о том, что такое «размеченные данные» для распознавания речи. Просто установить соответствие между звуковым файлом с речью и текстом, особенно если тексты достаточно длинные, может быть недостаточно. По-настоящему размеченные данные для распознавания — это звуковые файлы, в которых вручную отмечены (или хотя бы проверены) </a:t>
            </a:r>
            <a:r>
              <a:rPr b="0" lang="ru-RU" sz="1800" spc="-1" strike="noStrike" u="sng">
                <a:solidFill>
                  <a:srgbClr val="000000"/>
                </a:solidFill>
                <a:uFillTx/>
                <a:latin typeface="Calibri"/>
              </a:rPr>
              <a:t>границы каждой фонемы</a:t>
            </a:r>
            <a:r>
              <a:rPr b="0" lang="ru-RU" sz="1800" spc="-1" strike="noStrike">
                <a:solidFill>
                  <a:srgbClr val="000000"/>
                </a:solidFill>
                <a:latin typeface="Calibri"/>
              </a:rPr>
              <a:t>, каждого звука человеческой речи. Это адский труд, обычно делегируемый младшим научным сотрудникам, но даже целая армия лингвистов-фонологов будет двигаться достаточно медленно. А неразмеченных звуков живой человеческой речи вы можете записать сколько угодно, просто включив диктофон на запись.</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ую ситуацию иногда называют </a:t>
            </a:r>
            <a:r>
              <a:rPr b="0" i="1" lang="ru-RU" sz="1800" spc="-1" strike="noStrike">
                <a:solidFill>
                  <a:srgbClr val="000000"/>
                </a:solidFill>
                <a:latin typeface="Calibri"/>
              </a:rPr>
              <a:t>обучением с частичным привлечением учителя, или полуконтролируемым обучением </a:t>
            </a:r>
            <a:r>
              <a:rPr b="0" lang="ru-RU" sz="1800" spc="-1" strike="noStrike">
                <a:solidFill>
                  <a:srgbClr val="000000"/>
                </a:solidFill>
                <a:latin typeface="Calibri"/>
              </a:rPr>
              <a:t>(английский термин </a:t>
            </a:r>
            <a:r>
              <a:rPr b="0" i="1" lang="ru-RU" sz="1800" spc="-1" strike="noStrike">
                <a:solidFill>
                  <a:srgbClr val="000000"/>
                </a:solidFill>
                <a:latin typeface="Calibri"/>
              </a:rPr>
              <a:t>semi-supervised learning</a:t>
            </a:r>
            <a:r>
              <a:rPr b="0" lang="ru-RU" sz="1800" spc="-1" strike="noStrike">
                <a:solidFill>
                  <a:srgbClr val="000000"/>
                </a:solidFill>
                <a:latin typeface="Calibri"/>
              </a:rPr>
              <a:t> устоялся куда больш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бучение с подкреплением (reinforcement learning), - это </a:t>
            </a:r>
            <a:r>
              <a:rPr b="0" lang="ru-RU" sz="2000" spc="-1" strike="noStrike">
                <a:solidFill>
                  <a:srgbClr val="000000"/>
                </a:solidFill>
                <a:latin typeface="Calibri"/>
              </a:rPr>
              <a:t>когда агент, находясь в некоей среде, производит те или иные действия и получает за это награды. Цель агента — получить как можно большую награду с течением времени, а для этого неплохо бы понять, какие действия в конечном счете ведут к успеху. Так можно обучиться играть в разные игры или, например, сделать отличный протокол для </a:t>
            </a:r>
            <a:r>
              <a:rPr b="0" i="1" lang="ru-RU" sz="2000" spc="-1" strike="noStrike">
                <a:solidFill>
                  <a:srgbClr val="000000"/>
                </a:solidFill>
                <a:latin typeface="Calibri"/>
              </a:rPr>
              <a:t>A/B-тестирования</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 маркетингового исследования, суть которого заключается в том, что контрольная группа элементов сравнивается с набором тестовых групп, в которых один или несколько показателей были изменены для того, чтобы выяснить, какие из изменений улучшают целевой показатель).</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тод часто используется в веб-дизайне, типичные применения — исследование влияния цветовой схемы, расположения и размера элементов интерфейса на конверсию сайта. В веб-дизайне часто тестируются две очень похожие веб-страницы (страница А и страница В), которые различаются лишь одним элементом или несколькими элементам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тория развития</a:t>
            </a:r>
            <a:endParaRPr b="0" lang="en-US" sz="4400" spc="-1" strike="noStrike">
              <a:solidFill>
                <a:srgbClr val="000000"/>
              </a:solidFill>
              <a:latin typeface="Calibri"/>
            </a:endParaRPr>
          </a:p>
        </p:txBody>
      </p:sp>
      <p:pic>
        <p:nvPicPr>
          <p:cNvPr id="46" name="Рисунок 1" descr=""/>
          <p:cNvPicPr/>
          <p:nvPr/>
        </p:nvPicPr>
        <p:blipFill>
          <a:blip r:embed="rId1"/>
          <a:stretch/>
        </p:blipFill>
        <p:spPr>
          <a:xfrm>
            <a:off x="160200" y="1700280"/>
            <a:ext cx="8875800" cy="454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8" name="" descr=""/>
          <p:cNvPicPr/>
          <p:nvPr/>
        </p:nvPicPr>
        <p:blipFill>
          <a:blip r:embed="rId1"/>
          <a:stretch/>
        </p:blipFill>
        <p:spPr>
          <a:xfrm>
            <a:off x="457200" y="1600200"/>
            <a:ext cx="8229600" cy="4525920"/>
          </a:xfrm>
          <a:prstGeom prst="rect">
            <a:avLst/>
          </a:prstGeom>
          <a:ln w="0">
            <a:noFill/>
          </a:ln>
        </p:spPr>
      </p:pic>
      <p:pic>
        <p:nvPicPr>
          <p:cNvPr id="49" name="Рисунок 4" descr=""/>
          <p:cNvPicPr/>
          <p:nvPr/>
        </p:nvPicPr>
        <p:blipFill>
          <a:blip r:embed="rId2"/>
          <a:stretch/>
        </p:blipFill>
        <p:spPr>
          <a:xfrm>
            <a:off x="395280" y="503280"/>
            <a:ext cx="8424720" cy="585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1600200"/>
            <a:ext cx="8229600" cy="4525920"/>
          </a:xfrm>
          <a:prstGeom prst="rect">
            <a:avLst/>
          </a:prstGeom>
          <a:ln w="0">
            <a:noFill/>
          </a:ln>
        </p:spPr>
      </p:pic>
      <p:pic>
        <p:nvPicPr>
          <p:cNvPr id="51" name="Рисунок 4" descr=""/>
          <p:cNvPicPr/>
          <p:nvPr/>
        </p:nvPicPr>
        <p:blipFill>
          <a:blip r:embed="rId2"/>
          <a:stretch/>
        </p:blipFill>
        <p:spPr>
          <a:xfrm>
            <a:off x="250920" y="846000"/>
            <a:ext cx="4681440" cy="5381640"/>
          </a:xfrm>
          <a:prstGeom prst="rect">
            <a:avLst/>
          </a:prstGeom>
          <a:ln w="0">
            <a:noFill/>
          </a:ln>
        </p:spPr>
      </p:pic>
      <p:pic>
        <p:nvPicPr>
          <p:cNvPr id="52" name="Рисунок 6" descr=""/>
          <p:cNvPicPr/>
          <p:nvPr/>
        </p:nvPicPr>
        <p:blipFill>
          <a:blip r:embed="rId3"/>
          <a:stretch/>
        </p:blipFill>
        <p:spPr>
          <a:xfrm>
            <a:off x="5038560" y="274680"/>
            <a:ext cx="3854520" cy="50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pic>
        <p:nvPicPr>
          <p:cNvPr id="55" name="Рисунок 4" descr=""/>
          <p:cNvPicPr/>
          <p:nvPr/>
        </p:nvPicPr>
        <p:blipFill>
          <a:blip r:embed="rId2"/>
          <a:stretch/>
        </p:blipFill>
        <p:spPr>
          <a:xfrm>
            <a:off x="108000" y="404640"/>
            <a:ext cx="8856720" cy="563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дея </a:t>
            </a:r>
            <a:r>
              <a:rPr b="0" i="1" lang="ru-RU" sz="1600" spc="-1" strike="noStrike">
                <a:solidFill>
                  <a:srgbClr val="000000"/>
                </a:solidFill>
                <a:latin typeface="Calibri"/>
              </a:rPr>
              <a:t>искусственного интеллекта </a:t>
            </a:r>
            <a:r>
              <a:rPr b="0" lang="ru-RU" sz="1600" spc="-1" strike="noStrike">
                <a:solidFill>
                  <a:srgbClr val="000000"/>
                </a:solidFill>
                <a:latin typeface="Calibri"/>
              </a:rPr>
              <a:t>давно занимала людей. Гефест создавал роботов-андроидов, как для себя в качестве помощников, так и по заказу; например, построенного Гефестом гигантского человекоподобного робота Талоса Зевс позже подарил царю Миносу для охраны Крит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же в греческих мифах искусственный интеллект мог решать задачи, звучащие вполне современно: Талос трижды в день обегал весь остров, автоматически распознавал среди прибывающих кораблей недружелюбные и бросал в них огромные камни. Примерно тогда же Афродита оживила Галатею, созданную Пигмалионом из мрамора, а еще раньше Иегова и Аллах вдохнули жизнь, самосознание и изрядные когнитивные способности в куски глины.</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иудейской традиции особо мудрые раввины могли и сами создавать големов — великанов, которых сначала нужно было построить в виде статуи из глины и крови, а затем оживить подходящим артефактом или заклинанием. Големы могли выполнять команды своего создателя, то есть умели распознавать речь и обрабатывать естественный язык. Но синтезировать речь не получалось: если бы голем мог разговаривать самостоятельно, это значило бы, что у него появилась душа, а душу не может вложить даже самый мудрый раввин, — это прерогатива Господ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этому, когда известный алхимик Альберт Великий изготовил искусственную говорящую голову, он очень расстроил своего учителя Фому Аквинского, который, видимо, по этому вопросу был согласен с иудейскими источникам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333360"/>
            <a:ext cx="8229600" cy="59752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скусственный интеллект давно применялся и к играм: шахматный автомат «Турок» обыграл даже самого Наполеона I; впрочем, здесь быстро выяснилось, что искусственный интеллект не такой уж искусственный...</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ше время он стал важной литературной темой практически одновременно с появлением научной фантастики как таковой: начиная с доктора Франкенштейна, идея создания тех или иных мыслящих существ в литературе появляется постоянно. </a:t>
            </a: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читается, что </a:t>
            </a:r>
            <a:r>
              <a:rPr b="0" lang="ru-RU" sz="2000" spc="-1" strike="noStrike" u="sng">
                <a:solidFill>
                  <a:srgbClr val="000000"/>
                </a:solidFill>
                <a:uFillTx/>
                <a:latin typeface="Calibri"/>
              </a:rPr>
              <a:t>искусственный интеллект как наука </a:t>
            </a:r>
            <a:r>
              <a:rPr b="0" lang="ru-RU" sz="2000" spc="-1" strike="noStrike">
                <a:solidFill>
                  <a:srgbClr val="000000"/>
                </a:solidFill>
                <a:latin typeface="Calibri"/>
              </a:rPr>
              <a:t>начался с теста Тьюринга. Формулировка теста впервые появилась в знаменитой статье </a:t>
            </a:r>
            <a:r>
              <a:rPr b="0" i="1" lang="ru-RU" sz="2000" spc="-1" strike="noStrike">
                <a:solidFill>
                  <a:srgbClr val="000000"/>
                </a:solidFill>
                <a:latin typeface="Calibri"/>
              </a:rPr>
              <a:t>Computing Machineryand Intelligence, </a:t>
            </a:r>
            <a:r>
              <a:rPr b="0" lang="ru-RU" sz="2000" spc="-1" strike="noStrike">
                <a:solidFill>
                  <a:srgbClr val="000000"/>
                </a:solidFill>
                <a:latin typeface="Calibri"/>
              </a:rPr>
              <a:t>которую Алан Тьюринг выпустил в 1950 году. Впрочем, стоит отметить, что возможность создания «мыслящих машин» и наличия интеллекта у компьютеров обсуждалась и самим Тьюрингом, и его коллегами к тому времени уже как минимум лет десять; это была частая тема для дискуссий в английском </a:t>
            </a:r>
            <a:r>
              <a:rPr b="0" i="1" lang="ru-RU" sz="2000" spc="-1" strike="noStrike">
                <a:solidFill>
                  <a:srgbClr val="000000"/>
                </a:solidFill>
                <a:latin typeface="Calibri"/>
              </a:rPr>
              <a:t>Ratio Club</a:t>
            </a:r>
            <a:r>
              <a:rPr b="0" lang="ru-RU" sz="2000" spc="-1" strike="noStrike">
                <a:solidFill>
                  <a:srgbClr val="000000"/>
                </a:solidFill>
                <a:latin typeface="Calibri"/>
              </a:rPr>
              <a:t>, к которому принадлежал и Алан.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Идея теста Тьюринга</a:t>
            </a:r>
            <a:r>
              <a:rPr b="0" lang="ru-RU" sz="2000" spc="-1" strike="noStrike">
                <a:solidFill>
                  <a:srgbClr val="000000"/>
                </a:solidFill>
                <a:latin typeface="Calibri"/>
              </a:rPr>
              <a:t>: чтобы пройти тест, компьютер должен успешно выдать себя за человека в письменном диалоге между судьей, человеком и компьютером. Иначе говоря, человекоподобных андроидов строить не нужно, но компьютер должен стать неотличим от человека во владении естественным языко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50560" y="115560"/>
            <a:ext cx="5833800" cy="6553080"/>
          </a:xfrm>
          <a:prstGeom prst="rect">
            <a:avLst/>
          </a:prstGeom>
          <a:noFill/>
          <a:ln w="0">
            <a:noFill/>
          </a:ln>
        </p:spPr>
        <p:txBody>
          <a:bodyPr anchor="t">
            <a:normAutofit fontScale="98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ан Мэ́тисон Тью́ринг</a:t>
            </a:r>
            <a:r>
              <a:rPr b="0" lang="ru-RU" sz="1200" spc="-1" strike="noStrike">
                <a:solidFill>
                  <a:srgbClr val="000000"/>
                </a:solidFill>
                <a:latin typeface="Calibri"/>
              </a:rPr>
              <a:t>, (Alan Mathison Turing 23 июня 1912 — 7 июня 1954) — английский математик, логик, криптограф, оказавший существенное влияние на развитие информатики. Кавалер Ордена Британской империи (1945), член Лондонского королевского общества (1951). Предложенная им в 1936 году абстрактная вычислительная «Машина Тьюринга», которую можно считать моделью компьютера общего назначения, позволила формализовать понятие алгоритма и до сих пор используется во множестве теоретических и практических исследований. Научные труды А. Тьюринга — общепризнанный вклад в основания информатики (и, в частности, — теории искусственного интеллекта).</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Второй мировой войны Алан Тьюринг работал в Правительственной школе кодов и шифров, располагавшейся в Блетчли-парке, где была сосредоточена работа по взлому шифров и кодов стран Оси. Он возглавлял группу Hut 8, ответственную за криптоанализ сообщений военно-морского флота Германии. Тьюринг разработал ряд методов взлома, в том числе теоретическую базу для Bombe — машины, использованной для взлома немецкого шифратора Enigma.</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войны Тьюринг работал в Национальной физической лаборатории, где по его проекту был реализован первый в мире компьютер с хранимой в памяти программой — ACE. В 1948 учёный присоединился к вычислительной лаборатории Макса Ньюмана в Университете Манчестера, где ассистировал при создании Манчестерских Компьютеров, а позднее заинтересовался математической биологией. Тьюринг опубликовал работу по химическим основам морфогенеза и предсказал протекающие в колебательном режиме химические реакции, такие, как реакция Белоусова — Жаботинского, которые впервые были представлены научному сообществу в 1968 году. В 1950 году предложил эмпирический тест Тьюринга для оценки искусственного интеллекта компьютера.</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2 году Алан Тьюринг был признан виновным по обвинениям в совершении «грубой непристойности» в соответствии с «поправкой Лабушера», согласно которой преследовали гомосексуальных мужчин. Тьюрингу был предоставлен выбор между принудительной гормональной терапией, или тюремным заключением. Учёный выбрал первое. Алан Тьюринг умер в 1954 году от отравления цианидом. Следствие установило, что Тьюринг совершил самоубийство, хотя мать учёного считала, что произошедшее было случайностью. 24 декабря 2013 года королева Великобритании Елизавета II помиловала Алана Тьюринга посмертно.</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честь учёного названа Премия Тьюринга — самая престижная в мире награда в области информатики.</a:t>
            </a:r>
            <a:endParaRPr b="0" lang="en-US" sz="1200" spc="-1" strike="noStrike">
              <a:solidFill>
                <a:srgbClr val="000000"/>
              </a:solidFill>
              <a:latin typeface="Calibri"/>
            </a:endParaRPr>
          </a:p>
        </p:txBody>
      </p:sp>
      <p:pic>
        <p:nvPicPr>
          <p:cNvPr id="59" name="Рисунок 3" descr=""/>
          <p:cNvPicPr/>
          <p:nvPr/>
        </p:nvPicPr>
        <p:blipFill>
          <a:blip r:embed="rId1"/>
          <a:stretch/>
        </p:blipFill>
        <p:spPr>
          <a:xfrm>
            <a:off x="6084720" y="115920"/>
            <a:ext cx="2867040" cy="64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38:36Z</dcterms:modified>
  <cp:revision>212</cp:revision>
  <dc:subject/>
  <dc:title>Слайд 1</dc:title>
</cp:coreProperties>
</file>