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gif" ContentType="image/gif"/>
  <Override PartName="/ppt/media/image8.png" ContentType="image/png"/>
  <Override PartName="/ppt/media/image13.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F457E-8C38-434F-88AF-708097ABA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19CD4-E5DF-4E47-8A7A-3DF8A5D97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A8DCE-76CD-4402-9DF6-19B52C4D5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B4D2D-DC35-4582-B554-9305D9BCF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67033-BE17-4DE0-816C-1D1EF4737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95B78-71F4-4742-B69C-590E2AAF1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1F300-8334-4143-8B78-B05652C5F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9F4EF-2430-487A-B1B1-CE926519E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E0E97-3255-4A13-9DF2-BCAD89236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6DBC9-2C44-494C-B598-FDD4BFB1A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4BBF7-84D8-41C1-B9EE-344B81F38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10CF-9518-4383-A86E-754D11CAD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8008-6E2B-49BB-AE0E-0EF2D936F0F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69560"/>
            <a:ext cx="8686800" cy="181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ОСНОВЫ ПРОГРАММИРОВАНИЯ И ТЕХНОЛОГИЙ ИСКУССТВЕННОГО ИНТЕЛЛЕКТА</a:t>
            </a:r>
            <a:br>
              <a:rPr sz="2800"/>
            </a:br>
            <a:r>
              <a:rPr b="0" lang="ru-RU" sz="2800" spc="-1" strike="noStrike">
                <a:solidFill>
                  <a:srgbClr val="00b050"/>
                </a:solidFill>
                <a:latin typeface="Arial"/>
              </a:rPr>
              <a:t>В СФЕРЕ МАРКЕТИНГА</a:t>
            </a:r>
            <a:br>
              <a:rPr sz="2800"/>
            </a:br>
            <a:r>
              <a:rPr b="0" lang="ru-RU" sz="2800" spc="-1" strike="noStrike">
                <a:solidFill>
                  <a:srgbClr val="000000"/>
                </a:solidFill>
                <a:latin typeface="Arial"/>
              </a:rPr>
              <a:t>Вводный курс</a:t>
            </a:r>
            <a:endParaRPr b="0" lang="en-US" sz="2800" spc="-1" strike="noStrike">
              <a:solidFill>
                <a:srgbClr val="000000"/>
              </a:solidFill>
              <a:latin typeface="Calibri"/>
            </a:endParaRPr>
          </a:p>
        </p:txBody>
      </p:sp>
      <p:sp>
        <p:nvSpPr>
          <p:cNvPr id="42" name="TextBox 3"/>
          <p:cNvSpPr/>
          <p:nvPr/>
        </p:nvSpPr>
        <p:spPr>
          <a:xfrm>
            <a:off x="4716360" y="6165720"/>
            <a:ext cx="431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Цифровая кафедра СПбГ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333000"/>
            <a:ext cx="8229600" cy="5792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Второе важное замечание про работу человеческого мозга</a:t>
            </a:r>
            <a:r>
              <a:rPr b="0" lang="ru-RU" sz="2000" spc="-1" strike="noStrike">
                <a:solidFill>
                  <a:srgbClr val="000000"/>
                </a:solidFill>
                <a:latin typeface="Calibri"/>
              </a:rPr>
              <a:t>: мы распознаем лицо человека за пару сотен миллисекунд. А частота импульсов в аксонах бывает от 10 Гц в неактивном состоянии до примерно 200 Гц во время самой сильной активации. Это значит, что связи между отдельными нейронами активируются минимум за десятки миллисекунд, и в полном цикле распознавания человеческого лица не может быть последовательной цепочки активаций длиннее, чем буквально несколько нейронов; </a:t>
            </a:r>
            <a:r>
              <a:rPr b="0" lang="ru-RU" sz="2000" spc="-1" strike="noStrike" u="sng">
                <a:solidFill>
                  <a:srgbClr val="000000"/>
                </a:solidFill>
                <a:uFillTx/>
                <a:latin typeface="Calibri"/>
              </a:rPr>
              <a:t>скорее всего, меньше десятка</a:t>
            </a:r>
            <a:r>
              <a:rPr b="0" lang="ru-RU" sz="2000" spc="-1" strike="noStrike">
                <a:solidFill>
                  <a:srgbClr val="000000"/>
                </a:solidFill>
                <a:latin typeface="Calibri"/>
              </a:rPr>
              <a:t>!</a:t>
            </a:r>
            <a:endParaRPr b="0" lang="en-US" sz="2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о есть мозг, с одной стороны, содержит огромное число нейронов и еще больше связей между ними, но с другой — устроен очень плоско по сравнению с обычным процессором. Процессор в компьютере исполняет длинные последовательные цепочки команд, обрабатывая их в синхронном режиме, а у мозга цепочки короткие, зато работает он асинхронно (стохастически) и с очень высокой степенью параллелизации: нейроны активируются сразу во многих местах мозга, когда начинают распознавать лицо и делать много других увлекательных вещей. Можно сказать, что с этой точки зрения мозг больше похож на видеокарту, чем на процессор.</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333000"/>
            <a:ext cx="8229600" cy="5792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ще одна важная особенность состоит в том, что </a:t>
            </a:r>
            <a:r>
              <a:rPr b="0" lang="ru-RU" sz="2000" spc="-1" strike="noStrike" u="sng">
                <a:solidFill>
                  <a:srgbClr val="000000"/>
                </a:solidFill>
                <a:uFillTx/>
                <a:latin typeface="Calibri"/>
              </a:rPr>
              <a:t>аксоны могут быть очень длинными</a:t>
            </a:r>
            <a:r>
              <a:rPr b="0" lang="ru-RU" sz="2000" spc="-1" strike="noStrike">
                <a:solidFill>
                  <a:srgbClr val="000000"/>
                </a:solidFill>
                <a:latin typeface="Calibri"/>
              </a:rPr>
              <a:t>: например, от спинного мозга в конечности идут аксоны длиной около метра. Поэтому один аксон может с легкостью пересечь чуть ли не весь мозг, в связи с чем структура связей между нейронами в мозге чрезвычайно сложная.</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человеческом мозге есть огромное число «горизонтальных» связей между нейронами (когда связаны друг с другом нейроны одного уровня), множество замкнутых цепочек связанных нейронов, а также неожиданных и непонятных связей нейронов из совершенно разных областей мозга. Все эти связи время от времени срабатывают, но единой картины того, зачем все это нужно и как используется, в науке пока не сложилось. Так что на самом деле мы очень плохо понимаем, как работает настоящий человеческий мозг, и искусственные нейронные сети — </a:t>
            </a:r>
            <a:r>
              <a:rPr b="1" lang="ru-RU" sz="2000" spc="-1" strike="noStrike" u="sng">
                <a:solidFill>
                  <a:srgbClr val="000000"/>
                </a:solidFill>
                <a:uFillTx/>
                <a:latin typeface="Calibri"/>
              </a:rPr>
              <a:t>это не попытка приблизиться к реальной структуре, а достаточно абстрактные модели, созданные для решения оптимизационных зада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260280"/>
            <a:ext cx="8229600" cy="58658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Другое важнейшее свойство человеческого мозга — его пластичность</a:t>
            </a:r>
            <a:r>
              <a:rPr b="0" lang="ru-RU" sz="2000" spc="-1" strike="noStrike">
                <a:solidFill>
                  <a:srgbClr val="000000"/>
                </a:solidFill>
                <a:latin typeface="Calibri"/>
              </a:rPr>
              <a:t>. Многие исследования мозга, особенно ранние, выделяли в нем зоны, отвечающие за те или иные функции. По большому счету, только это и было доступно первым нейробиологам: они могли изучать, что человек теряет при травмах того или иного отдела мозга. Так, например, центр Брока, открытый Полем Брока еще в 1865 году, отвечает за артикуляцию речи. Если центр Брока поврежден, больной по-прежнему все понимает, но при попытках говорить получается ерунда: распадается грамматика, не удается подбирать правильные предлоги, путаются звуки в словах. А зона Вернике отвечает, наоборот, за понимание речи на слух.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человеческом мозге много узко специализированных участков. Исходя из этих исследований, можно подумать, что природа (точнее, эволюция) создала человеческий мозг подобно компьютеру с детально разработанной спецификацией: есть «видеокарта», отвечающая за зрение, есть «звуковая карта», обрабатывающая звук, есть «чатбот», который обучился языку, и все они представляют собой особые архитектуры нейронов, специально подогнанные под соответствующую задачу еще на генетическом уровн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404280"/>
            <a:ext cx="8229600" cy="57214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ая система взглядов была вполне логична на ранних этапах изучения мозга. Однако, исследования нейропластичности показывают, что нейроны из самых разных областей мозга могут при необходимости принимать на себя функции, обычно им не свойственные. Сейчас уже ясно, что в нашем мозге не только постоянно образуются новые связи между нейронами (новые синапсы), но и происходит непрерывное обновление самих нейронов </a:t>
            </a:r>
            <a:r>
              <a:rPr b="0" i="1" lang="ru-RU" sz="2000" spc="-1" strike="noStrike">
                <a:solidFill>
                  <a:srgbClr val="000000"/>
                </a:solidFill>
                <a:latin typeface="Calibri"/>
              </a:rPr>
              <a:t>(нейрогенезис</a:t>
            </a:r>
            <a:r>
              <a:rPr b="0" lang="ru-RU" sz="2000" spc="-1" strike="noStrike">
                <a:solidFill>
                  <a:srgbClr val="000000"/>
                </a:solidFill>
                <a:latin typeface="Calibri"/>
              </a:rPr>
              <a:t>). А уже существующие нейроны могут переобучиться для того, чтобы обрабатывать совершенно новые сигналы.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читается, что на нейропластичности основан </a:t>
            </a:r>
            <a:r>
              <a:rPr b="0" i="1" lang="ru-RU" sz="2000" spc="-1" strike="noStrike">
                <a:solidFill>
                  <a:srgbClr val="000000"/>
                </a:solidFill>
                <a:latin typeface="Calibri"/>
              </a:rPr>
              <a:t>феномен фантомных болей</a:t>
            </a:r>
            <a:r>
              <a:rPr b="0" lang="ru-RU" sz="2000" spc="-1" strike="noStrike">
                <a:solidFill>
                  <a:srgbClr val="000000"/>
                </a:solidFill>
                <a:latin typeface="Calibri"/>
              </a:rPr>
              <a:t>: нейроны, которые раньше «отвечали» за утраченные органы, начинают обучаться чему-то новому, а другие отделы мозга по привычке интерпретируют новые сигналы как идущие от уже давно не существующих конечностей.</a:t>
            </a:r>
            <a:endParaRPr b="0" lang="en-US" sz="20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пример, некоторые слепые люди развивают в себе способность к эхолокации, определению местоположения окружающих объектов по отраженному от них звуку. Некоторые слепые могут просто щелкать языком и определять окружающие объекты, прислушиваясь к отзвукам. А в других экспериментах вполне зрячие люди обучались эхолокации, получая сигналы с укрепленного на них сонара.</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33000"/>
            <a:ext cx="8229600" cy="5792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так, человеческий мозг состоит из связанных между собой нейронов, которые активируются в зависимости от своих «предков» и при активации передают друг другу сигналы.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озг может адаптироваться к новым источникам информации, даже изначально совершенно чуждым ему.</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следования нейропластичности, да и просто тот факт, что все нейроны в мозге работают примерно одинаково, убеждают нас в том, что </a:t>
            </a:r>
            <a:r>
              <a:rPr b="0" lang="ru-RU" sz="2000" spc="-1" strike="noStrike" u="sng">
                <a:solidFill>
                  <a:srgbClr val="000000"/>
                </a:solidFill>
                <a:uFillTx/>
                <a:latin typeface="Calibri"/>
              </a:rPr>
              <a:t>весь мозг функционирует по некоему «единому алгоритму», который может обучать конгломераты из нейронов на самых разных данных, выделяя признаки из потока неструктурированной информации.</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ая идея искусственных нейронных сетей — собрать сеть из простых нейронов, активирующихся или не активирующихся в зависимости от снабженных поддающимися тренировке весами, — действительно позаимствована у природы.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Однако дальше путь развития искусственного интеллекта отошел от природы; настоящие нейроны устроены значительно сложне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временное состояние</a:t>
            </a:r>
            <a:endParaRPr b="0" lang="en-US" sz="3200" spc="-1" strike="noStrike">
              <a:solidFill>
                <a:srgbClr val="000000"/>
              </a:solidFill>
              <a:latin typeface="Calibri"/>
            </a:endParaRPr>
          </a:p>
        </p:txBody>
      </p:sp>
      <p:sp>
        <p:nvSpPr>
          <p:cNvPr id="63" name=""/>
          <p:cNvSpPr txBox="1"/>
          <p:nvPr/>
        </p:nvSpPr>
        <p:spPr>
          <a:xfrm>
            <a:off x="457200" y="1125000"/>
            <a:ext cx="8229600" cy="5000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вым значительным индустриальным приложением современных глубоких нейронных сетей, которое подтвердило, что революция глубокого обучения действительно начинает необратимо менять ландшафт машинного обучения, да и вообще мира вокруг нас, стали успехи в распознавании речи.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руктура полноценного распознавателя речи выглядит так:</a:t>
            </a:r>
            <a:endParaRPr b="0" lang="en-US" sz="2000" spc="-1" strike="noStrike">
              <a:solidFill>
                <a:srgbClr val="000000"/>
              </a:solidFill>
              <a:latin typeface="Calibri"/>
            </a:endParaRPr>
          </a:p>
          <a:p>
            <a:pPr algn="just">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вуковой сигнал преобразуется в признаки специального вида;</a:t>
            </a:r>
            <a:endParaRPr b="0" lang="en-US" sz="1600" spc="-1" strike="noStrike">
              <a:solidFill>
                <a:srgbClr val="000000"/>
              </a:solidFill>
              <a:latin typeface="Calibri"/>
            </a:endParaRPr>
          </a:p>
          <a:p>
            <a:pPr algn="just">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знаки превращаются в гипотезы, которые предлагают варианты конкретных фонем для каждого окна в звуковом сигнале;</a:t>
            </a:r>
            <a:endParaRPr b="0" lang="en-US" sz="1600" spc="-1" strike="noStrike">
              <a:solidFill>
                <a:srgbClr val="000000"/>
              </a:solidFill>
              <a:latin typeface="Calibri"/>
            </a:endParaRPr>
          </a:p>
          <a:p>
            <a:pPr algn="just">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ипотезы о фонемах объединяются в гипотезы относительно произнесенных слов, и в выборе между ними уже участвует не только обработка самого звука, но и языковые модели.</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о глубоких сетей первые два шага этого процесса выглядели так: сначала звуковой сигнал превращался в так называемые MFCC-признаки, фонемы из них распознавали с помощью скрытых марковских моделей, а языковые модели представляли собой обычно сглаженные распределения </a:t>
            </a:r>
            <a:r>
              <a:rPr b="0" i="1" lang="ru-RU" sz="1600" spc="-1" strike="noStrike">
                <a:solidFill>
                  <a:srgbClr val="000000"/>
                </a:solidFill>
                <a:latin typeface="Calibri"/>
              </a:rPr>
              <a:t>n</a:t>
            </a:r>
            <a:r>
              <a:rPr b="0" lang="ru-RU" sz="1600" spc="-1" strike="noStrike">
                <a:solidFill>
                  <a:srgbClr val="000000"/>
                </a:solidFill>
                <a:latin typeface="Calibri"/>
              </a:rPr>
              <a:t>-грамм, то есть модели, которые оценивают вероятность следующего слова при условии нескольких предыдущих</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549000"/>
            <a:ext cx="8229600" cy="55767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MFCC (мел-кепстральные коэффициенты) — это представление сигнала, в виде особого спектра, из которого с помощью различных фильтраций и преобразований удалены незначительные для человеческого слуха компоненты. Спектр носит кратковременный характер, то есть изначально сигнал делится на пересекающиеся отрезки по 20-40 мс. Предполагается, что на таких отрезках частоты сигнала не меняются слишком сильно.</a:t>
            </a:r>
            <a:endParaRPr b="0" lang="en-US" sz="1800" spc="-1" strike="noStrike">
              <a:solidFill>
                <a:srgbClr val="000000"/>
              </a:solidFill>
              <a:latin typeface="Calibri"/>
            </a:endParaRPr>
          </a:p>
        </p:txBody>
      </p:sp>
      <p:pic>
        <p:nvPicPr>
          <p:cNvPr id="65" name="Рисунок 3" descr=""/>
          <p:cNvPicPr/>
          <p:nvPr/>
        </p:nvPicPr>
        <p:blipFill>
          <a:blip r:embed="rId1"/>
          <a:stretch/>
        </p:blipFill>
        <p:spPr>
          <a:xfrm>
            <a:off x="457200" y="2446200"/>
            <a:ext cx="2722680" cy="1976400"/>
          </a:xfrm>
          <a:prstGeom prst="rect">
            <a:avLst/>
          </a:prstGeom>
          <a:ln w="0">
            <a:noFill/>
          </a:ln>
        </p:spPr>
      </p:pic>
      <p:pic>
        <p:nvPicPr>
          <p:cNvPr id="66" name="Рисунок 4" descr=""/>
          <p:cNvPicPr/>
          <p:nvPr/>
        </p:nvPicPr>
        <p:blipFill>
          <a:blip r:embed="rId2"/>
          <a:stretch/>
        </p:blipFill>
        <p:spPr>
          <a:xfrm>
            <a:off x="3230640" y="2446200"/>
            <a:ext cx="2735280" cy="1976400"/>
          </a:xfrm>
          <a:prstGeom prst="rect">
            <a:avLst/>
          </a:prstGeom>
          <a:ln w="0">
            <a:noFill/>
          </a:ln>
        </p:spPr>
      </p:pic>
      <p:pic>
        <p:nvPicPr>
          <p:cNvPr id="67" name="Рисунок 5" descr=""/>
          <p:cNvPicPr/>
          <p:nvPr/>
        </p:nvPicPr>
        <p:blipFill>
          <a:blip r:embed="rId3"/>
          <a:stretch/>
        </p:blipFill>
        <p:spPr>
          <a:xfrm>
            <a:off x="6006960" y="2446200"/>
            <a:ext cx="2692440" cy="1976400"/>
          </a:xfrm>
          <a:prstGeom prst="rect">
            <a:avLst/>
          </a:prstGeom>
          <a:ln w="0">
            <a:noFill/>
          </a:ln>
        </p:spPr>
      </p:pic>
      <p:sp>
        <p:nvSpPr>
          <p:cNvPr id="68" name="TextBox 6"/>
          <p:cNvSpPr/>
          <p:nvPr/>
        </p:nvSpPr>
        <p:spPr>
          <a:xfrm>
            <a:off x="1042920" y="4797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игнал</a:t>
            </a:r>
            <a:endParaRPr b="0" lang="en-US" sz="1800" spc="-1" strike="noStrike">
              <a:solidFill>
                <a:srgbClr val="000000"/>
              </a:solidFill>
              <a:latin typeface="Arial"/>
            </a:endParaRPr>
          </a:p>
        </p:txBody>
      </p:sp>
      <p:sp>
        <p:nvSpPr>
          <p:cNvPr id="69" name="TextBox 7"/>
          <p:cNvSpPr/>
          <p:nvPr/>
        </p:nvSpPr>
        <p:spPr>
          <a:xfrm>
            <a:off x="3564000" y="47973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трезки по 25 мс</a:t>
            </a:r>
            <a:endParaRPr b="0" lang="en-US" sz="1800" spc="-1" strike="noStrike">
              <a:solidFill>
                <a:srgbClr val="000000"/>
              </a:solidFill>
              <a:latin typeface="Arial"/>
            </a:endParaRPr>
          </a:p>
        </p:txBody>
      </p:sp>
      <p:sp>
        <p:nvSpPr>
          <p:cNvPr id="70" name="TextBox 8"/>
          <p:cNvSpPr/>
          <p:nvPr/>
        </p:nvSpPr>
        <p:spPr>
          <a:xfrm>
            <a:off x="6948360" y="4797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F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333360"/>
            <a:ext cx="8229600" cy="59040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лубокие сети начали с того, что заменили собой распознаватель, основанный на скрытых марковских моделях. Более того, быстро стало ясно, что MFCC-признаки тоже можно улучшить путем обучения: нет, сети пока что не начинают работу непосредственно с необработанного звукового сигнала, но представления, подающиеся на вход современным системам распознавания, гораздо более «сырые», чем MFCC.</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ые такие исследования, основанные на глубоких сетях с предобучением без учителя, появились около 2010 года, а уже к 2012-му это привело к тому, что все крупнейшие игроки на рынке распознавания речи перешли на нейронные сети: и Microsoft, и Google, и IBM. Основные результаты здесь были достигнуты сначала благодаря тому, что выделение признаков для декодеров, основанных на скрытых марковских моделях, можно было «отделить» от самих декодеров и отдать глубоким сетям, то есть сначала это было во многом обучение без учителя.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о вскоре появились и прорывные результаты о распознавании </a:t>
            </a:r>
            <a:r>
              <a:rPr b="0" i="1" lang="ru-RU" sz="1800" spc="-1" strike="noStrike">
                <a:solidFill>
                  <a:srgbClr val="000000"/>
                </a:solidFill>
                <a:latin typeface="Calibri"/>
              </a:rPr>
              <a:t>end-to-end</a:t>
            </a:r>
            <a:r>
              <a:rPr b="0" lang="ru-RU" sz="1800" spc="-1" strike="noStrike">
                <a:solidFill>
                  <a:srgbClr val="000000"/>
                </a:solidFill>
                <a:latin typeface="Calibri"/>
              </a:rPr>
              <a:t>, то есть полностью от начала до конца с учителем, и сейчас фактически все проекты для распознавания речи, включая виртуальных помощников вроде Apple Siri, работают на глубоких нейронных сетях. Сюда же примыкает и анализ музыки: хотя там успехи пока не столь впечатляющие, последние модели для распознавания и порождения музыки тоже работают на глубоких нейронных сетя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89000"/>
            <a:ext cx="8229600" cy="59371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лед за речью пришло время обработки изображений. </a:t>
            </a:r>
            <a:r>
              <a:rPr b="0" lang="en-US" sz="2000" spc="-1" strike="noStrike">
                <a:solidFill>
                  <a:srgbClr val="000000"/>
                </a:solidFill>
                <a:latin typeface="Calibri"/>
              </a:rPr>
              <a:t>C</a:t>
            </a:r>
            <a:r>
              <a:rPr b="0" lang="ru-RU" sz="2000" spc="-1" strike="noStrike">
                <a:solidFill>
                  <a:srgbClr val="000000"/>
                </a:solidFill>
                <a:latin typeface="Calibri"/>
              </a:rPr>
              <a:t> 1980-х годов в группе Яна ЛеКуна изображения обрабатывали именно нейронными сетями. К тому же времени относится и первый взлет сверточных нейронных сетей, специальной архитектуры, которая отлично подходит для обработки именно</a:t>
            </a:r>
            <a:r>
              <a:rPr b="0" lang="en-US" sz="2000" spc="-1" strike="noStrike">
                <a:solidFill>
                  <a:srgbClr val="000000"/>
                </a:solidFill>
                <a:latin typeface="Calibri"/>
              </a:rPr>
              <a:t> </a:t>
            </a:r>
            <a:r>
              <a:rPr b="0" lang="ru-RU" sz="2000" spc="-1" strike="noStrike">
                <a:solidFill>
                  <a:srgbClr val="000000"/>
                </a:solidFill>
                <a:latin typeface="Calibri"/>
              </a:rPr>
              <a:t>таких входов, как картинки. В целом, это редкий пример области, в которой нейронные сети никогда полностью не пропадали из виду.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ако после начала революции глубокого обучения прогресс</a:t>
            </a:r>
            <a:r>
              <a:rPr b="0" lang="en-US" sz="2000" spc="-1" strike="noStrike">
                <a:solidFill>
                  <a:srgbClr val="000000"/>
                </a:solidFill>
                <a:latin typeface="Calibri"/>
              </a:rPr>
              <a:t> </a:t>
            </a:r>
            <a:r>
              <a:rPr b="0" lang="ru-RU" sz="2000" spc="-1" strike="noStrike">
                <a:solidFill>
                  <a:srgbClr val="000000"/>
                </a:solidFill>
                <a:latin typeface="Calibri"/>
              </a:rPr>
              <a:t>в обработке изображений тоже резко ускорился. В 2009–2010 годах глубокие сверточные сети выиграли ряд соревнований по распознаванию символов и даже</a:t>
            </a:r>
            <a:r>
              <a:rPr b="0" lang="en-US" sz="2000" spc="-1" strike="noStrike">
                <a:solidFill>
                  <a:srgbClr val="000000"/>
                </a:solidFill>
                <a:latin typeface="Calibri"/>
              </a:rPr>
              <a:t> </a:t>
            </a:r>
            <a:r>
              <a:rPr b="0" lang="ru-RU" sz="2000" spc="-1" strike="noStrike">
                <a:solidFill>
                  <a:srgbClr val="000000"/>
                </a:solidFill>
                <a:latin typeface="Calibri"/>
              </a:rPr>
              <a:t>распознаванию видео с камер слежения. Кроме того, в 2009 году появились первые реализации нейронных сетей на графических процессорах, что</a:t>
            </a:r>
            <a:r>
              <a:rPr b="0" lang="en-US" sz="2000" spc="-1" strike="noStrike">
                <a:solidFill>
                  <a:srgbClr val="000000"/>
                </a:solidFill>
                <a:latin typeface="Calibri"/>
              </a:rPr>
              <a:t> </a:t>
            </a:r>
            <a:r>
              <a:rPr b="0" lang="ru-RU" sz="2000" spc="-1" strike="noStrike">
                <a:solidFill>
                  <a:srgbClr val="000000"/>
                </a:solidFill>
                <a:latin typeface="Calibri"/>
              </a:rPr>
              <a:t>дало огромный импульс всем связанным со сверточными сетями исследования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476280"/>
            <a:ext cx="8229600" cy="564984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наши дни самые глубокие сети — это именно сверточные сети для обработки изображений или видео; они могут насчитывать несколько сотен слоев.</a:t>
            </a:r>
            <a:endParaRPr b="0" lang="en-US" sz="1600" spc="-1" strike="noStrike">
              <a:solidFill>
                <a:srgbClr val="000000"/>
              </a:solidFill>
              <a:latin typeface="Calibri"/>
            </a:endParaRPr>
          </a:p>
        </p:txBody>
      </p:sp>
      <p:pic>
        <p:nvPicPr>
          <p:cNvPr id="74" name="Рисунок 3" descr=""/>
          <p:cNvPicPr/>
          <p:nvPr/>
        </p:nvPicPr>
        <p:blipFill>
          <a:blip r:embed="rId1"/>
          <a:stretch/>
        </p:blipFill>
        <p:spPr>
          <a:xfrm>
            <a:off x="457200" y="1700280"/>
            <a:ext cx="5040360" cy="3744720"/>
          </a:xfrm>
          <a:prstGeom prst="rect">
            <a:avLst/>
          </a:prstGeom>
          <a:ln w="0">
            <a:noFill/>
          </a:ln>
        </p:spPr>
      </p:pic>
      <p:pic>
        <p:nvPicPr>
          <p:cNvPr id="75" name="Рисунок 4" descr=""/>
          <p:cNvPicPr/>
          <p:nvPr/>
        </p:nvPicPr>
        <p:blipFill>
          <a:blip r:embed="rId2"/>
          <a:stretch/>
        </p:blipFill>
        <p:spPr>
          <a:xfrm>
            <a:off x="5745240" y="1700280"/>
            <a:ext cx="3024000" cy="37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ема лекции</a:t>
            </a:r>
            <a:r>
              <a:rPr b="0" lang="ru-RU" sz="4400" spc="-1" strike="noStrike">
                <a:solidFill>
                  <a:srgbClr val="000000"/>
                </a:solidFill>
                <a:latin typeface="Calibri"/>
              </a:rPr>
              <a:t>:</a:t>
            </a:r>
            <a:endParaRPr b="0" lang="en-US" sz="4400" spc="-1" strike="noStrike">
              <a:solidFill>
                <a:srgbClr val="000000"/>
              </a:solidFill>
              <a:latin typeface="Calibri"/>
            </a:endParaRPr>
          </a:p>
        </p:txBody>
      </p:sp>
      <p:sp>
        <p:nvSpPr>
          <p:cNvPr id="44" name=""/>
          <p:cNvSpPr txBox="1"/>
          <p:nvPr/>
        </p:nvSpPr>
        <p:spPr>
          <a:xfrm>
            <a:off x="457200" y="2491920"/>
            <a:ext cx="8229600" cy="261468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Основы современных нейросетевых технологий</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260280"/>
            <a:ext cx="8229600" cy="5865840"/>
          </a:xfrm>
          <a:prstGeom prst="rect">
            <a:avLst/>
          </a:prstGeom>
          <a:noFill/>
          <a:ln w="0">
            <a:noFill/>
          </a:ln>
        </p:spPr>
        <p:txBody>
          <a:bodyPr anchor="t">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Но почему же люди настолько лучше обучаются, чем ИНС?</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первых</a:t>
            </a:r>
            <a:r>
              <a:rPr b="0" lang="ru-RU" sz="2000" spc="-1" strike="noStrike">
                <a:solidFill>
                  <a:srgbClr val="000000"/>
                </a:solidFill>
                <a:latin typeface="Calibri"/>
              </a:rPr>
              <a:t>, у человека еще в раннем детстве появляется понимание нескольких крайне важных для нормального функционирования основных предметных областей — то, что называется </a:t>
            </a:r>
            <a:r>
              <a:rPr b="1" lang="ru-RU" sz="2000" spc="-1" strike="noStrike" u="sng">
                <a:solidFill>
                  <a:srgbClr val="000000"/>
                </a:solidFill>
                <a:uFillTx/>
                <a:latin typeface="Calibri"/>
              </a:rPr>
              <a:t>базовым знанием </a:t>
            </a:r>
            <a:r>
              <a:rPr b="0" lang="ru-RU" sz="2000" spc="-1" strike="noStrike">
                <a:solidFill>
                  <a:srgbClr val="000000"/>
                </a:solidFill>
                <a:latin typeface="Calibri"/>
              </a:rPr>
              <a:t>(core knowledg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роме понимания операций с числами и множествами и навигации в пространстве, </a:t>
            </a:r>
            <a:r>
              <a:rPr b="0" i="1" lang="ru-RU" sz="2000" spc="-1" strike="noStrike">
                <a:solidFill>
                  <a:srgbClr val="000000"/>
                </a:solidFill>
                <a:latin typeface="Calibri"/>
              </a:rPr>
              <a:t>особенно подчеркиваются два компонента</a:t>
            </a:r>
            <a:r>
              <a:rPr b="0" lang="ru-RU" sz="2000" spc="-1" strike="noStrike">
                <a:solidFill>
                  <a:srgbClr val="000000"/>
                </a:solidFill>
                <a:latin typeface="Calibri"/>
              </a:rPr>
              <a:t>, которые отличают живого человека от искусственных нейронных сетей.</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Интуитивная физика: </a:t>
            </a:r>
            <a:r>
              <a:rPr b="0" lang="ru-RU" sz="1600" spc="-1" strike="noStrike">
                <a:solidFill>
                  <a:srgbClr val="000000"/>
                </a:solidFill>
                <a:latin typeface="Calibri"/>
              </a:rPr>
              <a:t>понимание того, как работает окружающий нас физический мир. Младенцы довольно быстро начинают разбираться в окружающем их физическом мире. К шести месяцам ребенок уже хорошо понимает постоянство объектов физического мира, то, что они должны двигаться непрерывно и не менять мгновенно свою форму, и уже даже различают твердые и жидкие объекты. А к году малыши уверенно овладевают такими понятиями, как инерция, поддержка, способность одних объектов содержаться в других и т. д.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ученых нет уверенности в том, как это все работает у человека, но по современным представлениям, интуитивная физика — это нечто вроде логических рассуждений, построенных на модели физической симуляции, вроде физической модели в компьютерной игре. Модель эта, конечно, крайне приблизительная, мы не проводим настоящих вычислений, но достаточно точная для повседневных выводов и, главное, способная к очень мощным обобщениям и переносу на новые визуальные вход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404280"/>
            <a:ext cx="8229600" cy="57214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нтуитивная психология</a:t>
            </a:r>
            <a:r>
              <a:rPr b="0" lang="ru-RU" sz="1800" spc="-1" strike="noStrike">
                <a:solidFill>
                  <a:srgbClr val="000000"/>
                </a:solidFill>
                <a:latin typeface="Calibri"/>
              </a:rPr>
              <a:t>: тут дела обстоят еще интереснее. Дети, даже младенцы, очень быстро понимают, что некоторые сущности в окружающем мире обладают волей и действуют, преследуя какие-то свои цели. Более того, уже годовалые малыши прекрасно могут различать эти цели и действия по их достижению и даже делать некие зачатки моральных суждений, понимая, когда «плохие» агенты мешают «хорошим» достигать их «хороших» целей. Именно такие рассуждения позволяют нам с вами быстро научиться компьютерной игре, просто наблюдая за тем, что делают другие люди, и осознавая, какие цели они преследуют. Вы можете даже ни разу не увидеть, как Марио умирает, столкнувшись с черепашкой, — просто посмотрев на то, что опытный игрок все время избегает или убивает черепашек, вы поймете, что это враг и с ним нужно поступать именно так.</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куда все это берется — пока тоже до конца не понятно; возможно, из развивающейся сейчас в когнитивистике байесовской теории сознания, а возможно, и нет. Но понятно, что такого рода рассуждения искусственные нейронные сети сейчас совершенно не умеют вести, и это может быть важным направлением для дальнейших исследовани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33000"/>
            <a:ext cx="8229600" cy="57927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вторых</a:t>
            </a:r>
            <a:r>
              <a:rPr b="0" lang="ru-RU" sz="1800" spc="-1" strike="noStrike">
                <a:solidFill>
                  <a:srgbClr val="000000"/>
                </a:solidFill>
                <a:latin typeface="Calibri"/>
              </a:rPr>
              <a:t>, люди очень хороши в том, что называется переносом обучения (</a:t>
            </a:r>
            <a:r>
              <a:rPr b="0" i="1" lang="ru-RU" sz="1800" spc="-1" strike="noStrike">
                <a:solidFill>
                  <a:srgbClr val="000000"/>
                </a:solidFill>
                <a:latin typeface="Calibri"/>
              </a:rPr>
              <a:t>transfer learning</a:t>
            </a:r>
            <a:r>
              <a:rPr b="0" lang="ru-RU" sz="1800" spc="-1" strike="noStrike">
                <a:solidFill>
                  <a:srgbClr val="000000"/>
                </a:solidFill>
                <a:latin typeface="Calibri"/>
              </a:rPr>
              <a:t>): мы можем быстро построить модель нового объекта или процесса, порождая правильные абстракции из очень, очень маленького числа обучающих примеров. Известно, что дети с трех до 14–15 лет изучают в среднем 8–9 новых слов каждый день. Довольно очевидно, что они не могут получить большое число разных контекстов для каждого нового слова и должны обучаться по считанным единицам тренировочных примеров. Сейчас начинают проводиться исследования о том, как перенести такое обучение (его обычно называют обучением по одному примеру, </a:t>
            </a:r>
            <a:r>
              <a:rPr b="0" i="1" lang="ru-RU" sz="1800" spc="-1" strike="noStrike">
                <a:solidFill>
                  <a:srgbClr val="000000"/>
                </a:solidFill>
                <a:latin typeface="Calibri"/>
              </a:rPr>
              <a:t>one-shot learning</a:t>
            </a:r>
            <a:r>
              <a:rPr b="0" lang="ru-RU" sz="1800" spc="-1" strike="noStrike">
                <a:solidFill>
                  <a:srgbClr val="000000"/>
                </a:solidFill>
                <a:latin typeface="Calibri"/>
              </a:rPr>
              <a:t>) в нейронные сети и модели машинного обучения в целом. С помощью байесовского подхода к обучению уже достигнуты некоторые успехи в таких задачах, как распознавание рукописных символов и речевых сигналов, но основная работа здесь еще впереди.</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может ли </a:t>
            </a:r>
            <a:r>
              <a:rPr b="0" i="1" lang="ru-RU" sz="1800" spc="-1" strike="noStrike">
                <a:solidFill>
                  <a:srgbClr val="000000"/>
                </a:solidFill>
                <a:latin typeface="Calibri"/>
              </a:rPr>
              <a:t>AlphaGo</a:t>
            </a:r>
            <a:r>
              <a:rPr b="0" lang="ru-RU" sz="1800" spc="-1" strike="noStrike">
                <a:solidFill>
                  <a:srgbClr val="000000"/>
                </a:solidFill>
                <a:latin typeface="Calibri"/>
              </a:rPr>
              <a:t> разумно сыграть с человеком, например, в го на гексагональной или тороидальной доске? Вряд ли. А человек, умеющий играть в го, адаптируется мгновенно, и хотя, конечно, не сразу достигнет тех же высот в новом варианте, сразу начнет играть вполне разумно.</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549000"/>
            <a:ext cx="8229600" cy="5576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третьих</a:t>
            </a:r>
            <a:r>
              <a:rPr b="0" lang="ru-RU" sz="2000" spc="-1" strike="noStrike">
                <a:solidFill>
                  <a:srgbClr val="000000"/>
                </a:solidFill>
                <a:latin typeface="Calibri"/>
              </a:rPr>
              <a:t>, настоящим камнем преткновения для искусственного интеллекта остается причинность (</a:t>
            </a:r>
            <a:r>
              <a:rPr b="0" i="1" lang="ru-RU" sz="2000" spc="-1" strike="noStrike">
                <a:solidFill>
                  <a:srgbClr val="000000"/>
                </a:solidFill>
                <a:latin typeface="Calibri"/>
              </a:rPr>
              <a:t>causality</a:t>
            </a:r>
            <a:r>
              <a:rPr b="0" lang="ru-RU" sz="2000" spc="-1" strike="noStrike">
                <a:solidFill>
                  <a:srgbClr val="000000"/>
                </a:solidFill>
                <a:latin typeface="Calibri"/>
              </a:rPr>
              <a:t>), то есть способность распознавать и выделять «истинные причины» наблюдаемых эффектов, строить модели процессов, которые могли бы привести к таким наблюдениям.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гда человек смотрит на фотографию, в его воображении обычно создается некий нарратив, объясняющий происходящее на снимке как связную последовательную историю. А когда нейронная сеть порождает подписи к фотографиям, ничего подобного не происходит; часто бывает так, что сеть корректно распознает все ключевые объекты на фото, но не может связать их правильным логическим образом. </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то, разумеется, обычно связано и с вышеупомянутыми интуитивной физикой и интуитивной психологией: они помогают нам выбрать правильное объяснение. Психологические и когнитивные исследования показывают, что причинность в этом смысле может появляться и на более низком уровне: например, классические теории восприятия речи утверждают, что ее проще всего объяснить через «обращение» услышанного, распознавание движений речевого тракта, которые могли бы привести к таким звукам.</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333000"/>
            <a:ext cx="8229600" cy="57927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 наконец, люди гораздо </a:t>
            </a:r>
            <a:r>
              <a:rPr b="1" lang="ru-RU" sz="1800" spc="-1" strike="noStrike">
                <a:solidFill>
                  <a:srgbClr val="000000"/>
                </a:solidFill>
                <a:latin typeface="Calibri"/>
              </a:rPr>
              <a:t>лучше умеют учиться</a:t>
            </a:r>
            <a:r>
              <a:rPr b="0" lang="ru-RU" sz="1800" spc="-1" strike="noStrike">
                <a:solidFill>
                  <a:srgbClr val="000000"/>
                </a:solidFill>
                <a:latin typeface="Calibri"/>
              </a:rPr>
              <a:t>. Младенцы учатся относительно медленно, но затем способность к обучению постепенно «раскручивается», и мы с вами осваиваем новое гораздо более эффективно, чем имеющиеся у нас данные позволили бы, например, современным архитектурам нейронных сетей. Это показывает, что у людей при обучении появляются очень сильные ограничения, априорные распределения.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ые шаги в направлении такого «абстрагирования» уже, конечно, делаются. Например, довольно очевидно, что даже самые разнообразные системы компьютерного зрения могут переиспользовать первые уровни анализа изображения, выделение базовых признаков, которые могут оставаться общими для самых разных изображений Однако это пока все еще только первые шаги, причем ограниченные конкретными областями примен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333000"/>
            <a:ext cx="8229600" cy="5792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 например, изобретатель самого популярного метода распределенных представлений слов </a:t>
            </a:r>
            <a:r>
              <a:rPr b="0" i="1" lang="ru-RU" sz="2000" spc="-1" strike="noStrike">
                <a:solidFill>
                  <a:srgbClr val="000000"/>
                </a:solidFill>
                <a:latin typeface="Calibri"/>
              </a:rPr>
              <a:t>word2vec</a:t>
            </a:r>
            <a:r>
              <a:rPr b="0" lang="ru-RU" sz="2000" spc="-1" strike="noStrike">
                <a:solidFill>
                  <a:srgbClr val="000000"/>
                </a:solidFill>
                <a:latin typeface="Calibri"/>
              </a:rPr>
              <a:t> Томаш Миколов и его соавторы попытались изложить свое видение того, как нейронные сети могут двигаться в сторону AI.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 мнению Миколова, есть два основных качества «настоящего» интеллекта, которые нужны, чтобы признать программу разумной:</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пособность к коммуникации</a:t>
            </a:r>
            <a:r>
              <a:rPr b="0" lang="ru-RU" sz="2000" spc="-1" strike="noStrike">
                <a:solidFill>
                  <a:srgbClr val="000000"/>
                </a:solidFill>
                <a:latin typeface="Calibri"/>
              </a:rPr>
              <a:t>, чтобы программа могла интерактивно общаться с людьми и получать информацию об окружающем мире; для этого предлагается использовать единый канал связи общего вида, в который и обучающийся агент, и те, кто его обучают, могут писать сообщения разнообразной формы;</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пособность к обучению</a:t>
            </a:r>
            <a:r>
              <a:rPr b="0" lang="ru-RU" sz="2000" spc="-1" strike="noStrike">
                <a:solidFill>
                  <a:srgbClr val="000000"/>
                </a:solidFill>
                <a:latin typeface="Calibri"/>
              </a:rPr>
              <a:t>, и в части собственно обучения, и в части мотивации для этого обучения, которая должна приходить через тот самый канал для коммуникации с окружающим миром в форме положительных и отрицательных стимулов (как в обучении с подкрепление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549000"/>
            <a:ext cx="8229600" cy="5576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этого предлагается построить специальную экосистему для обучающихся агентов, похожую на компьютерную игру. В этой экосистеме будет Учитель (</a:t>
            </a:r>
            <a:r>
              <a:rPr b="0" i="1" lang="ru-RU" sz="2000" spc="-1" strike="noStrike">
                <a:solidFill>
                  <a:srgbClr val="000000"/>
                </a:solidFill>
                <a:latin typeface="Calibri"/>
              </a:rPr>
              <a:t>Teacher</a:t>
            </a:r>
            <a:r>
              <a:rPr b="0" lang="ru-RU" sz="2000" spc="-1" strike="noStrike">
                <a:solidFill>
                  <a:srgbClr val="000000"/>
                </a:solidFill>
                <a:latin typeface="Calibri"/>
              </a:rPr>
              <a:t>), чье поведение полностью контролируется экспериментаторами, и Ученик (</a:t>
            </a:r>
            <a:r>
              <a:rPr b="0" i="1" lang="ru-RU" sz="2000" spc="-1" strike="noStrike">
                <a:solidFill>
                  <a:srgbClr val="000000"/>
                </a:solidFill>
                <a:latin typeface="Calibri"/>
              </a:rPr>
              <a:t>Learner</a:t>
            </a:r>
            <a:r>
              <a:rPr b="0" lang="ru-RU" sz="2000" spc="-1" strike="noStrike">
                <a:solidFill>
                  <a:srgbClr val="000000"/>
                </a:solidFill>
                <a:latin typeface="Calibri"/>
              </a:rPr>
              <a:t>), которого мы, собственно, и выращиваем. Они общаются через вышеозначенный канал связи, по которому также отдельно передаются стимулы (награды) за желаемое и нежелательное поведение Ученика. Идея системы состоит в том, чтобы Учитель последовательно обучал Ученика задачам возрастающей слож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собенности человеческого мозга</a:t>
            </a:r>
            <a:endParaRPr b="0" lang="en-US" sz="3200" spc="-1" strike="noStrike">
              <a:solidFill>
                <a:srgbClr val="000000"/>
              </a:solidFill>
              <a:latin typeface="Calibri"/>
            </a:endParaRPr>
          </a:p>
        </p:txBody>
      </p:sp>
      <p:sp>
        <p:nvSpPr>
          <p:cNvPr id="46" name=""/>
          <p:cNvSpPr txBox="1"/>
          <p:nvPr/>
        </p:nvSpPr>
        <p:spPr>
          <a:xfrm>
            <a:off x="457200" y="1341000"/>
            <a:ext cx="8229600" cy="4535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гда мы говорим о задачах машинного обучения, мы быстро сталкиваемся с задачами, с решением которых человеческий мозг до сих пор справляется лучше и быстрее, чем компьютер.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пример, мы лучше обращаемся с естественным языком: можем прочитать, понять и содержательно изучить книгу, а современные компьютеры испытывают большие проблемы с ответами даже на очевидные для человека вопросы. Да и вообще мы хорошо умеем обучаться в широком смысле этого слова — компьютерные программы пока очень далеки от человеческого уровня обобщений и поиска взаимосвязей между разнородной информацией.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то же делает человеческий мозг таким эффективным? Как он умудряется достичь таких высот? В чем разница между тем, что делают нейроны в мозге, и тем, что делают транзисторы в процессоре? Тема эта неисчерпаема, поэтому приведем только пару локальных примеров, с помощью которых продемонстрируем основные различия и отчасти мотивируем отдельные особенности нейронных сете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еловеческий (да и любой другой) мозг состоит из нейронов. У каждого из них есть один длинный отросток, </a:t>
            </a:r>
            <a:r>
              <a:rPr b="0" i="1" lang="ru-RU" sz="1800" spc="-1" strike="noStrike">
                <a:solidFill>
                  <a:srgbClr val="000000"/>
                </a:solidFill>
                <a:latin typeface="Calibri"/>
              </a:rPr>
              <a:t>аксон</a:t>
            </a:r>
            <a:r>
              <a:rPr b="0" lang="ru-RU" sz="1800" spc="-1" strike="noStrike">
                <a:solidFill>
                  <a:srgbClr val="000000"/>
                </a:solidFill>
                <a:latin typeface="Calibri"/>
              </a:rPr>
              <a:t>, и много коротких отростков, </a:t>
            </a:r>
            <a:r>
              <a:rPr b="0" i="1" lang="ru-RU" sz="1800" spc="-1" strike="noStrike">
                <a:solidFill>
                  <a:srgbClr val="000000"/>
                </a:solidFill>
                <a:latin typeface="Calibri"/>
              </a:rPr>
              <a:t>дендритов</a:t>
            </a:r>
            <a:r>
              <a:rPr b="0" lang="ru-RU" sz="1800" spc="-1" strike="noStrike">
                <a:solidFill>
                  <a:srgbClr val="000000"/>
                </a:solidFill>
                <a:latin typeface="Calibri"/>
              </a:rPr>
              <a:t>, которые связываются с аксонами других нейронов. Связи между дендритами и аксонами тоже имеют сложную структуру, в которую мы не будем вдаваться, и называются </a:t>
            </a:r>
            <a:r>
              <a:rPr b="0" i="1" lang="ru-RU" sz="1800" spc="-1" strike="noStrike">
                <a:solidFill>
                  <a:srgbClr val="000000"/>
                </a:solidFill>
                <a:latin typeface="Calibri"/>
              </a:rPr>
              <a:t>синапсами</a:t>
            </a:r>
            <a:r>
              <a:rPr b="0" lang="ru-RU" sz="1800" spc="-1" strike="noStrike">
                <a:solidFill>
                  <a:srgbClr val="000000"/>
                </a:solidFill>
                <a:latin typeface="Calibri"/>
              </a:rPr>
              <a:t>. Связей в мозге очень много: порядка 10</a:t>
            </a:r>
            <a:r>
              <a:rPr b="0" lang="ru-RU" sz="1800" spc="-1" strike="noStrike" baseline="30000">
                <a:solidFill>
                  <a:srgbClr val="000000"/>
                </a:solidFill>
                <a:latin typeface="Calibri"/>
              </a:rPr>
              <a:t>11</a:t>
            </a:r>
            <a:r>
              <a:rPr b="0" lang="ru-RU" sz="1800" spc="-1" strike="noStrike">
                <a:solidFill>
                  <a:srgbClr val="000000"/>
                </a:solidFill>
                <a:latin typeface="Calibri"/>
              </a:rPr>
              <a:t> (сто миллиардов) нейронов, у каждого из которых в среднем 7000 связей, то есть получается, что в нашем мозге содержится порядка 10</a:t>
            </a:r>
            <a:r>
              <a:rPr b="0" lang="ru-RU" sz="1800" spc="-1" strike="noStrike" baseline="30000">
                <a:solidFill>
                  <a:srgbClr val="000000"/>
                </a:solidFill>
                <a:latin typeface="Calibri"/>
              </a:rPr>
              <a:t>14</a:t>
            </a:r>
            <a:r>
              <a:rPr b="0" lang="ru-RU" sz="1800" spc="-1" strike="noStrike">
                <a:solidFill>
                  <a:srgbClr val="000000"/>
                </a:solidFill>
                <a:latin typeface="Calibri"/>
              </a:rPr>
              <a:t>–10</a:t>
            </a:r>
            <a:r>
              <a:rPr b="0" lang="ru-RU" sz="1800" spc="-1" strike="noStrike" baseline="30000">
                <a:solidFill>
                  <a:srgbClr val="000000"/>
                </a:solidFill>
                <a:latin typeface="Calibri"/>
              </a:rPr>
              <a:t>15</a:t>
            </a:r>
            <a:r>
              <a:rPr b="0" lang="ru-RU" sz="1800" spc="-1" strike="noStrike">
                <a:solidFill>
                  <a:srgbClr val="000000"/>
                </a:solidFill>
                <a:latin typeface="Calibri"/>
              </a:rPr>
              <a:t> (сто триллионов) синапсов.</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ждый нейрон время от времени посылает по аксону нервный импульс (</a:t>
            </a:r>
            <a:r>
              <a:rPr b="0" i="1" lang="ru-RU" sz="1800" spc="-1" strike="noStrike">
                <a:solidFill>
                  <a:srgbClr val="000000"/>
                </a:solidFill>
                <a:latin typeface="Calibri"/>
              </a:rPr>
              <a:t>spike</a:t>
            </a:r>
            <a:r>
              <a:rPr b="0" lang="ru-RU" sz="1800" spc="-1" strike="noStrike">
                <a:solidFill>
                  <a:srgbClr val="000000"/>
                </a:solidFill>
                <a:latin typeface="Calibri"/>
              </a:rPr>
              <a:t>), который имеет электрическую природу. Пока нейрон жив, он никогда не останавливается и продолжает подавать сигналы. Но при этом нейрон может находиться в двух разных состояниях: когда он находится в «выключенном» состоянии, частота подачи сигналов маленькая, а когда он возбуждается, «включается», частота подачи импульсов (</a:t>
            </a:r>
            <a:r>
              <a:rPr b="0" i="1" lang="ru-RU" sz="1800" spc="-1" strike="noStrike">
                <a:solidFill>
                  <a:srgbClr val="000000"/>
                </a:solidFill>
                <a:latin typeface="Calibri"/>
              </a:rPr>
              <a:t>firing rate</a:t>
            </a:r>
            <a:r>
              <a:rPr b="0" lang="ru-RU" sz="1800" spc="-1" strike="noStrike">
                <a:solidFill>
                  <a:srgbClr val="000000"/>
                </a:solidFill>
                <a:latin typeface="Calibri"/>
              </a:rPr>
              <a:t>) сильно увеличивается. Активация нейронов зависит от сигналов, приходящих через синапсы и затем дендриты от других нейронов. Связь в синапсе может быть как положительная (</a:t>
            </a:r>
            <a:r>
              <a:rPr b="0" i="1" lang="ru-RU" sz="1800" spc="-1" strike="noStrike">
                <a:solidFill>
                  <a:srgbClr val="000000"/>
                </a:solidFill>
                <a:latin typeface="Calibri"/>
              </a:rPr>
              <a:t>excitation</a:t>
            </a:r>
            <a:r>
              <a:rPr b="0" lang="ru-RU" sz="1800" spc="-1" strike="noStrike">
                <a:solidFill>
                  <a:srgbClr val="000000"/>
                </a:solidFill>
                <a:latin typeface="Calibri"/>
              </a:rPr>
              <a:t>), когда активация соседнего нейрона повышает вероятность активации нашего, так и отрицательная (</a:t>
            </a:r>
            <a:r>
              <a:rPr b="0" i="1" lang="ru-RU" sz="1800" spc="-1" strike="noStrike">
                <a:solidFill>
                  <a:srgbClr val="000000"/>
                </a:solidFill>
                <a:latin typeface="Calibri"/>
              </a:rPr>
              <a:t>inhibition</a:t>
            </a:r>
            <a:r>
              <a:rPr b="0" lang="ru-RU" sz="1800" spc="-1" strike="noStrike">
                <a:solidFill>
                  <a:srgbClr val="000000"/>
                </a:solidFill>
                <a:latin typeface="Calibri"/>
              </a:rPr>
              <a:t>), когда активация соседнего нейрона, наоборот, подавляет активност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4" descr=""/>
          <p:cNvPicPr/>
          <p:nvPr/>
        </p:nvPicPr>
        <p:blipFill>
          <a:blip r:embed="rId1"/>
          <a:stretch/>
        </p:blipFill>
        <p:spPr>
          <a:xfrm>
            <a:off x="1306440" y="3284640"/>
            <a:ext cx="6624720" cy="3168720"/>
          </a:xfrm>
          <a:prstGeom prst="rect">
            <a:avLst/>
          </a:prstGeom>
          <a:ln w="0">
            <a:noFill/>
          </a:ln>
        </p:spPr>
      </p:pic>
      <p:pic>
        <p:nvPicPr>
          <p:cNvPr id="49" name="Рисунок 5" descr=""/>
          <p:cNvPicPr/>
          <p:nvPr/>
        </p:nvPicPr>
        <p:blipFill>
          <a:blip r:embed="rId2"/>
          <a:stretch/>
        </p:blipFill>
        <p:spPr>
          <a:xfrm>
            <a:off x="2387520" y="549360"/>
            <a:ext cx="4464000" cy="24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Объект 3" descr=""/>
          <p:cNvPicPr/>
          <p:nvPr/>
        </p:nvPicPr>
        <p:blipFill>
          <a:blip r:embed="rId1"/>
          <a:stretch/>
        </p:blipFill>
        <p:spPr>
          <a:xfrm>
            <a:off x="1403280" y="1773360"/>
            <a:ext cx="696132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Рисунок 3" descr=""/>
          <p:cNvPicPr/>
          <p:nvPr/>
        </p:nvPicPr>
        <p:blipFill>
          <a:blip r:embed="rId1"/>
          <a:stretch/>
        </p:blipFill>
        <p:spPr>
          <a:xfrm>
            <a:off x="179280" y="765000"/>
            <a:ext cx="6048360" cy="4608720"/>
          </a:xfrm>
          <a:prstGeom prst="rect">
            <a:avLst/>
          </a:prstGeom>
          <a:ln w="0">
            <a:noFill/>
          </a:ln>
        </p:spPr>
      </p:pic>
      <p:pic>
        <p:nvPicPr>
          <p:cNvPr id="52" name="Рисунок 4" descr=""/>
          <p:cNvPicPr/>
          <p:nvPr/>
        </p:nvPicPr>
        <p:blipFill>
          <a:blip r:embed="rId2"/>
          <a:stretch/>
        </p:blipFill>
        <p:spPr>
          <a:xfrm>
            <a:off x="6300720" y="2205000"/>
            <a:ext cx="2735280" cy="719280"/>
          </a:xfrm>
          <a:prstGeom prst="rect">
            <a:avLst/>
          </a:prstGeom>
          <a:ln w="0">
            <a:noFill/>
          </a:ln>
        </p:spPr>
      </p:pic>
      <p:pic>
        <p:nvPicPr>
          <p:cNvPr id="53" name="Рисунок 5" descr=""/>
          <p:cNvPicPr/>
          <p:nvPr/>
        </p:nvPicPr>
        <p:blipFill>
          <a:blip r:embed="rId3"/>
          <a:stretch/>
        </p:blipFill>
        <p:spPr>
          <a:xfrm>
            <a:off x="6588000" y="3573360"/>
            <a:ext cx="2232000" cy="719280"/>
          </a:xfrm>
          <a:prstGeom prst="rect">
            <a:avLst/>
          </a:prstGeom>
          <a:ln w="0">
            <a:noFill/>
          </a:ln>
        </p:spPr>
      </p:pic>
      <p:pic>
        <p:nvPicPr>
          <p:cNvPr id="54" name="Рисунок 6" descr=""/>
          <p:cNvPicPr/>
          <p:nvPr/>
        </p:nvPicPr>
        <p:blipFill>
          <a:blip r:embed="rId4"/>
          <a:stretch/>
        </p:blipFill>
        <p:spPr>
          <a:xfrm>
            <a:off x="6562800" y="765000"/>
            <a:ext cx="1942920" cy="5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Хотелось бы провести аналогию между нейронами и транзисторами, из которых состоит процессор, но уже на уровне подачи нервных импульсов мы видим </a:t>
            </a:r>
            <a:r>
              <a:rPr b="0" lang="ru-RU" sz="2000" spc="-1" strike="noStrike" u="sng">
                <a:solidFill>
                  <a:srgbClr val="000000"/>
                </a:solidFill>
                <a:uFillTx/>
                <a:latin typeface="Calibri"/>
              </a:rPr>
              <a:t>первое важное различие между мозгом и компьютером</a:t>
            </a:r>
            <a:r>
              <a:rPr b="0" lang="ru-RU" sz="2000" spc="-1" strike="noStrike">
                <a:solidFill>
                  <a:srgbClr val="000000"/>
                </a:solidFill>
                <a:latin typeface="Calibri"/>
              </a:rPr>
              <a:t>.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ло в том, что нейрон работает </a:t>
            </a:r>
            <a:r>
              <a:rPr b="0" i="1" lang="ru-RU" sz="2000" spc="-1" strike="noStrike">
                <a:solidFill>
                  <a:srgbClr val="000000"/>
                </a:solidFill>
                <a:latin typeface="Calibri"/>
              </a:rPr>
              <a:t>стохастически</a:t>
            </a:r>
            <a:r>
              <a:rPr b="0" lang="ru-RU" sz="2000" spc="-1" strike="noStrike">
                <a:solidFill>
                  <a:srgbClr val="000000"/>
                </a:solidFill>
                <a:latin typeface="Calibri"/>
              </a:rPr>
              <a:t>: он выдает электрические сигналы через </a:t>
            </a:r>
            <a:r>
              <a:rPr b="0" i="1" lang="ru-RU" sz="2000" spc="-1" strike="noStrike">
                <a:solidFill>
                  <a:srgbClr val="000000"/>
                </a:solidFill>
                <a:latin typeface="Calibri"/>
              </a:rPr>
              <a:t>случайные</a:t>
            </a:r>
            <a:r>
              <a:rPr b="0" lang="ru-RU" sz="2000" spc="-1" strike="noStrike">
                <a:solidFill>
                  <a:srgbClr val="000000"/>
                </a:solidFill>
                <a:latin typeface="Calibri"/>
              </a:rPr>
              <a:t> промежутки времени. Их последовательность можно довольно хорошо приблизить пуассоновским случайным процессом, интенсивность которого меняется в зависимости от того, возбужден нейрон или нет.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компьютерах тоже есть </a:t>
            </a:r>
            <a:r>
              <a:rPr b="0" i="1" lang="ru-RU" sz="2000" spc="-1" strike="noStrike">
                <a:solidFill>
                  <a:srgbClr val="000000"/>
                </a:solidFill>
                <a:latin typeface="Calibri"/>
              </a:rPr>
              <a:t>гейты</a:t>
            </a:r>
            <a:r>
              <a:rPr b="0" lang="ru-RU" sz="2000" spc="-1" strike="noStrike">
                <a:solidFill>
                  <a:srgbClr val="000000"/>
                </a:solidFill>
                <a:latin typeface="Calibri"/>
              </a:rPr>
              <a:t>, обменивающиеся сигналами друг с другом, но они делают это совершенно не стохастически, а с очень жесткой </a:t>
            </a:r>
            <a:r>
              <a:rPr b="0" i="1" lang="ru-RU" sz="2000" spc="-1" strike="noStrike">
                <a:solidFill>
                  <a:srgbClr val="000000"/>
                </a:solidFill>
                <a:latin typeface="Calibri"/>
              </a:rPr>
              <a:t>синхронизацией</a:t>
            </a:r>
            <a:r>
              <a:rPr b="0" lang="ru-RU" sz="2000" spc="-1" strike="noStrike">
                <a:solidFill>
                  <a:srgbClr val="000000"/>
                </a:solidFill>
                <a:latin typeface="Calibri"/>
              </a:rPr>
              <a:t>: частота процессора (в гигагерцах) — это и есть частота такой синхронизации. На каждом такте гейт одного уровня передает сигнал следующему уровню, и делают они это хоть и несколько миллиардов раз в секунду, но </a:t>
            </a:r>
            <a:r>
              <a:rPr b="0" i="1" lang="ru-RU" sz="2000" spc="-1" strike="noStrike">
                <a:solidFill>
                  <a:srgbClr val="000000"/>
                </a:solidFill>
                <a:latin typeface="Calibri"/>
              </a:rPr>
              <a:t>строго одновременно, по команде</a:t>
            </a:r>
            <a:r>
              <a:rPr b="0" lang="ru-RU"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333000"/>
            <a:ext cx="8229600" cy="5759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зможно, дело в том, что в биологии все нечетко, и синхронизация между нейронами была бы желательна, но достичь ее у создавшей нас эволюции просто не получилось? Простейшие наблюдения показывают, что на самом деле </a:t>
            </a:r>
            <a:r>
              <a:rPr b="0" i="1" lang="ru-RU" sz="1800" spc="-1" strike="noStrike">
                <a:solidFill>
                  <a:srgbClr val="000000"/>
                </a:solidFill>
                <a:latin typeface="Calibri"/>
              </a:rPr>
              <a:t>нейроны хорошо умеют синхронизироваться и очень точно засекать весьма короткие промежутки времени</a:t>
            </a:r>
            <a:r>
              <a:rPr b="0" lang="ru-RU" sz="1800" spc="-1" strike="noStrike">
                <a:solidFill>
                  <a:srgbClr val="000000"/>
                </a:solidFill>
                <a:latin typeface="Calibri"/>
              </a:rPr>
              <a:t>.</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амая простая и яркая иллюстрация этого — </a:t>
            </a:r>
            <a:r>
              <a:rPr b="0" i="1" lang="ru-RU" sz="1800" spc="-1" strike="noStrike">
                <a:solidFill>
                  <a:srgbClr val="000000"/>
                </a:solidFill>
                <a:latin typeface="Calibri"/>
              </a:rPr>
              <a:t>стереозвук</a:t>
            </a:r>
            <a:r>
              <a:rPr b="0" lang="ru-RU" sz="1800" spc="-1" strike="noStrike">
                <a:solidFill>
                  <a:srgbClr val="000000"/>
                </a:solidFill>
                <a:latin typeface="Calibri"/>
              </a:rPr>
              <a:t>. Когда вы переходите от одной стороны комнаты к другой, вы можете, опираясь исключительно на звук, идущий из колонок вашего компьютера, определить направление на его источник. Очевидно, в доисторические времена для людей было крайне важно понять, слева или справа хрустнула ветка под лапой тигра...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тобы узнать направление, вы отмечаете разницу во времени, когда звук приходит в левое и правое ухо. Расстояние между внутренними ушами не слишком большое, сантиметров двадцать. И если разделить его на скорость звука (340 м/с), получится очень короткий интервал, десятые доли миллисекунды, который, тем не менее, нейроны отлично распознают, что позволяет определить направление с хорошей точностью. То есть мозг в принципе мог бы работать как компьютер с частотой, измеряющейся килогерцами. С учетом огромной степени параллелизации, достигнутой в архитектуре мозга, это могло бы привести к вполне разумной вычислительной мощности. Но почему-то мозг этого не делае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8:55:59Z</dcterms:created>
  <dc:creator>Владислав</dc:creator>
  <dc:description/>
  <dc:language>en-US</dc:language>
  <cp:lastModifiedBy>Admin</cp:lastModifiedBy>
  <dcterms:modified xsi:type="dcterms:W3CDTF">2025-09-03T14:44:08Z</dcterms:modified>
  <cp:revision>263</cp:revision>
  <dc:subject/>
  <dc:title>Слайд 1</dc:title>
</cp:coreProperties>
</file>